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gif" ContentType="image/gif"/>
  <Override PartName="/ppt/media/image1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6AB6-DCFA-4858-95C3-F1059E587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FEB8-4168-4BE7-997C-780329B768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FBC-1258-4862-9A3B-5BBA626DAA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8F5E-F891-48DC-924C-5E022B5DB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B0CD-A3AE-4584-B871-87AAF3D4E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18B6-1688-4CED-8D8B-41B9351E73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5A4-1673-40A8-839B-84AEEC291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717E-1C05-4B3B-99B2-0692B6D6C1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中日软件恳谈会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1F55-8372-413D-8DDD-62EA6FEA9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F01-07CA-4494-B65A-0FA640800F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196-2780-417D-921C-A17D3CFA79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1A9-AACF-40C7-8223-311D04985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E663-9500-4349-8FCE-333CDB3F7F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软件与信息服务外包专题座谈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A13-3A8C-4A91-848F-B446486BE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283-2A01-4BAD-9068-6DC67353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6F6-FDE7-42ED-80F7-DDF2905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E5B8C-8C9B-4F1B-8BFC-3EC986D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52801-639C-4480-8261-E6B1FDC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DF7A2-33E6-4086-8B72-368A73F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68E4C-7870-4302-ACA0-56E7D2B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301E0-1CFD-4255-863E-0BF1F6F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0386-35DC-446A-BA73-757A6E0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D430C-AFF8-4BDC-91AB-F4351BD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CBA3-CA38-4FCC-A510-D9CAA664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E68C1-6428-4A2A-8638-E1F134EE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0EC29-B9B2-483E-8132-D0DBFF7D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F7C-5B1A-43F0-83C5-C0E90B8E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73D4-177D-42B2-A786-5E36F470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8E401-1D6A-4AE1-9283-D9FA4477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65D25-2A83-441B-9CD8-4A5F9F08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7681-85D3-42C6-88CD-A05CAAC7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2A577-93FB-4885-9F6B-439C293B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25A18-0BD1-48B6-B69B-3ACB995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75D84-AA67-4A19-8B29-8CAC33C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0F7E4-9B7F-47FD-9DCD-668E0F4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C8A71-9DE1-48BF-9F48-F90FFAD2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485D-7586-4300-8355-076227C3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C1B-F5E4-454C-A4E6-C7F9316F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74D33-ED5D-4AEE-BC31-562AC69E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9A01C-F5CB-4BD1-8625-6165FDC8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EFB98-6022-415A-83BC-E793AFE7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3CFAD-7D9E-4009-9A32-D8A4789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3AE0-6C6A-412B-9943-3E2ECB0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52B68-1011-462B-B999-D7A9269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D6F27-7D98-4123-9427-F9FE8AB1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80BB3-7AF7-4986-AF62-8AF8532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97C4-E71B-481E-88DA-0216FC2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A2051-0D1A-48D2-BD19-09DA4B2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E6C9-1163-4501-ADC4-0E052B49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835E0-B601-4CA7-BC7E-FD5ED18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9FDF8-BF94-4847-9320-6A38C5C8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F64A-E050-41D4-84E5-FB2071EC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236-DBFA-4B52-9CFD-904F164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FF8F-4C06-4470-A024-06D53F30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26B6-58D5-4057-806A-27B7359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62BF-89FD-4948-9906-A1BC895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A8A-C5FC-4FBB-ADAA-A03F8BA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D6D-06C6-4A42-9D47-1E88BEC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D38-C6A7-45EC-AACD-F9BECCC0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AAAB-8422-4CE4-91E1-B948A82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4E34-AB4F-42DB-8E1E-9D89972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7382-8002-4948-84A6-65A3CDEE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B111-FD2A-4381-89C4-D1CAB346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19F-D49F-41AE-A4B7-5E30E0EA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1FE0-C963-462E-9E3B-26E918DB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8B44-3E8F-4995-97D1-56F8B1D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D225-08E2-4DDB-B576-B7CBD8C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8900-0374-4102-A494-5E05572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9E2B-8DC2-498D-985E-781AC1A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DA0-CC65-4737-9934-562A7B4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B1C6-C739-4CA6-AA0E-FDF9012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037B-55D3-4A5A-AAEA-BDBDCA5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8AB4-F112-4949-9433-A96E97B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9C90-C4E3-498E-8B83-8D19F68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383E-742A-48EB-AC64-64E67855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5B49-73C7-4112-AEC3-147C16B0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623D-082A-492B-BBA7-902EF58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EA29-8309-48B8-98A4-C925B6F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7899-59E4-4DD4-B6E6-642F1416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D7AC-8091-4A03-B917-2CBABE1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382-946E-4CC2-AAAB-9A8EA32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4B7C-5AA2-442F-9655-0B77D7D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13D3-0CB8-4ACD-95CF-4F74652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50CB-4AB3-48CE-BFB1-24C6003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BACC-C8A1-4E4A-8518-9E020AE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833B-9E03-4EC9-88A1-E938028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05FA-77CD-423B-B6BF-E27260F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A76B-C097-4000-911A-CD0A8DD0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A8F0-4042-4E22-A467-103A1CB1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58F2-8A04-41D8-9298-96BFF846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0646-8EA7-42C5-90F5-3A60CF4B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0B3-F071-4BA8-81C2-5659FD7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6B31-8558-4C82-A7DA-C9AEBC30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5234-4008-4143-8BF4-200B4DB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5089-2A4D-4EBC-944B-C1366DA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13C51-3B31-4A26-87E3-1BA5E1F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8AF9-CE5E-4E48-AB9E-C02B6D1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634D-C710-472C-AC5F-8A87C19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BB0F-EA58-41F2-8ADA-54AE248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2B8D6-E230-4CB8-A05A-8E1B4F1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7C33-DBDA-4001-AE65-16EB8E58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88DA-241D-4F74-AC6F-955116C7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222-8C7A-4B74-B11C-F209E214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F2F3-0DF1-42E6-9721-4330A76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D7B8-C9A4-4BE4-AE7E-BEB4F527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A5B5-31F4-41FB-A412-FB36D74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096C-5CAE-4F75-BF88-4E26BEC1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3CC71-167D-48F1-9CF1-AFF2C85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8536-1B55-4E26-936C-CCF9698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DCDB-028E-4118-A7A4-C374BEFD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C4A9-6DD5-4346-A073-E5578A5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3529-32FB-4639-BF48-25FDC86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9FAF-5284-4343-9123-FC70435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074-3EDD-4963-B83C-E63B5FF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7748-5FFB-4376-96BD-08D50C1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7A1D-A055-4163-8D70-274DBC37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3A8A-40F6-4943-9687-6DCF77C5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820C-18D7-46EF-AD73-373000C7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6CF4-FCD9-45B6-A557-416C815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61F66-810F-46E3-89BB-91F3BFF6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6365E-25F9-4155-A83B-F562EBC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CC81-4A7A-4C75-A57D-1656736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74BA-6196-4628-8E1C-6579E835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C037-EE7C-4217-8BD8-04BE926D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D38-C34B-46F4-968C-E17427A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D27B-13D1-43F8-83B4-3ED0BD2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CB5E-19F5-4F46-A5DA-D63305B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FCD6-EA20-4D21-B00D-315BA46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647E-5C50-4812-9828-F4F81210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B237-E582-4B5B-B5DD-0C84D10F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446E-F274-498C-9325-93EDDD78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E6731-75B1-4D6A-BB57-A5E3D95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98C9-A79D-4933-A227-5A4E54C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32D1A-0003-40AA-85CC-7084BF3A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EDA40-B215-4755-9755-2255BD8C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8C5-1F4C-4090-9510-4BF6C76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20CD-D770-4B84-895B-DEB83BC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3120-98AB-4C8A-8456-877047E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8D90-E746-4BE8-A53F-D81407F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2794-2AFD-4D03-9DFD-5D9B6B2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73AB-4E24-46DE-8198-14703B3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E1165-1507-49FE-BBE5-1DD7211B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AA36-DD6E-464C-A231-4C7E3D51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EDF0-7844-417B-8B89-414C19ED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9ACE-8399-4469-B321-8F92BF7D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47A6C-52D1-462F-8A0D-2749D0D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4DF-5AEF-474A-81D2-ED7791370317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DBE3C17C-F4E4-4AD9-ABF4-07FFF5DD713E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421-60A5-4852-9A3B-334A28F575B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2BBF-5D50-4E8D-BBE3-97453E0C188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AA83C319-B1F5-46E6-A0FB-2F47E525EAF6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931-4FD1-4FDD-8D5F-21F0953F71E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C086-CB0F-4C9E-810B-C06428A6EFE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90A059AB-02E8-44D1-B890-8D3137F24460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053-8B30-4243-8D5B-08EDD5ACF3D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3995640" y="6273720"/>
            <a:ext cx="514836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E292-59CA-4ED0-9626-EC3098F813F7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53FC1A07-1007-434D-991F-4948373E9861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E5C-57A5-407D-8239-B9E265EB85D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EEB-33B4-4927-90F0-42F626194C4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9BE-4525-4A9F-B9A6-6FB2CC4C69A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77B34D0F-EDB8-4EFB-A02F-16EE6642BBE5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108A-4ADD-4CA4-8969-8E2B57C40B7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EB4-FEC5-4189-A146-857995FBCCD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15E6832E-0B6B-4D97-8783-D15E6E3C0030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5FE7-A41A-4825-9735-5D08EEF5FFD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D22E-D30E-42BF-A5AE-01AA0232514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DA5E67B6-306B-430B-B4E7-D8449796F6EF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796-2096-4CD7-9739-C5A97A8F3B6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D54-FD61-43DC-89BD-79B3C19996E1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59B31CE0-475C-49F2-B263-A619910047E2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ED5-5B0E-44A8-85BE-FBE2B835300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0823-269C-4DEB-BAAF-57E01EEAB34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718-1193-4D6A-8404-C3D364DC31B8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30</a:t>
            </a:fld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 </a:t>
            </a:r>
            <a:fld id="{64D056F1-3384-4D25-8447-A5697C3CFAB9}" type="datetime10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04:1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0DD-B444-42AF-8042-FF7A2F3BAEC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032360" y="6273720"/>
            <a:ext cx="5148000" cy="584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10"/>
          <p:cNvSpPr txBox="1"/>
          <p:nvPr/>
        </p:nvSpPr>
        <p:spPr>
          <a:xfrm>
            <a:off x="1476360" y="2384280"/>
            <a:ext cx="5834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据结构基础复习提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755640" y="1600200"/>
            <a:ext cx="74883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单项选择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填空题（每空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计算题（每题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3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47546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阅读算法题（每题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，共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20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题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468360" y="54936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单项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分析的两个主要方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空间复杂度和时间复杂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性和简单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可读性和可操作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程序复杂性和数据复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在计算机存储器内表示时，物理地址与逻辑地址相同并且是连续的，称之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存储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逻辑结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顺序存储结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链式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"/>
          <p:cNvSpPr/>
          <p:nvPr/>
        </p:nvSpPr>
        <p:spPr>
          <a:xfrm>
            <a:off x="239760" y="1268280"/>
            <a:ext cx="6605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算法的语句执行频度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+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时间复杂度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线性表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况下适用于使用顺序存储结构实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需不断对Ｌ进行按序号查找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需不断对Ｌ进行删除插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含有大量的结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Ｌ中结点结构复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下数据结构中哪一个是线性结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"/>
          <p:cNvSpPr/>
          <p:nvPr/>
        </p:nvSpPr>
        <p:spPr>
          <a:xfrm>
            <a:off x="576360" y="1376280"/>
            <a:ext cx="62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二叉树是非线性数据结构，所以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顺序存储结构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它不能用链式存储结构存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顺序存储结构和链式存储结构都能存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顺序存储结构和链式存储结构都不能使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的顺序表中，算法的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的操作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访问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个结点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和求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个结点的直接前驱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2≤i≤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在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后插入一个新结点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删除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≤i≤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结点从小到大排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2"/>
          <p:cNvSpPr/>
          <p:nvPr/>
        </p:nvSpPr>
        <p:spPr>
          <a:xfrm>
            <a:off x="468360" y="981000"/>
            <a:ext cx="638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单链表中，指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指向元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结点，实现删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后继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. p=p-&gt;next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. p-&gt;next=p-&gt;next-&gt;next;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. p-&gt;next=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. p-&gt;next-&gt;next =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设将整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,2,3,4,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依次进栈，最后都出栈，出栈可以在任何时刻（只要栈不空）进行，则出栈序列不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 54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3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．下面程序的时间复杂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+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t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(j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=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++) t=t+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=s*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"/>
          <p:cNvSpPr/>
          <p:nvPr/>
        </p:nvSpPr>
        <p:spPr>
          <a:xfrm>
            <a:off x="216000" y="1268280"/>
            <a:ext cx="664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等概率的条件下，采用顺序查找的方法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线性表时，查找成功的平均查找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. (n+1)/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(n-1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队列元素的进出原则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先进先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后进先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空则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队列满则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个顺序表的第一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个元素的长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元素的存储地址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02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.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1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.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2"/>
          <p:cNvSpPr/>
          <p:nvPr/>
        </p:nvSpPr>
        <p:spPr>
          <a:xfrm>
            <a:off x="142920" y="1413000"/>
            <a:ext cx="671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若已知一个栈的入栈序列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其输出序列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1=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=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n-j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不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树中，若结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兄弟，而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双亲，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度为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 填空题（每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，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设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均为空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再将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元素顺次出队的元素进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再将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的元素逐个出栈，并将出栈元素顺次进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队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状态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decb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无向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邻接矩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i][j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[j][i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一个单链表中删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指结点的后继结点时，应执行以下操作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 = p-&gt;next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-&gt;next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q-&gt;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;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遍历图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方法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串相等的充分必要条件是两个串的长度相等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1079640" y="2708280"/>
            <a:ext cx="669744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特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算法的时间复杂度与空间复杂度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执行频度与时间复杂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物理结构与逻辑结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数据元素之间的关系有哪些；线性结构包括哪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2158920" y="1592280"/>
            <a:ext cx="5005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绪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二叉树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层上最多有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lang="en-US" sz="3200" spc="-1" strike="noStrike" u="sng" baseline="30000">
                <a:solidFill>
                  <a:srgbClr val="ff0000"/>
                </a:solidFill>
                <a:uFillTx/>
                <a:latin typeface="Arial"/>
                <a:ea typeface="宋体"/>
              </a:rPr>
              <a:t>i-1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节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若以邻接矩阵表示有向图，则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行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出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邻接矩阵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列中非零元素的个数即为顶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入度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结点所构成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叉树有种形态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树内各结点度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大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称为树的度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在初始为空的队列中插入元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,b,c,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后，紧接着做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次删除操作，此时的队头元素是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046160" y="2338560"/>
            <a:ext cx="845820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611280" y="22510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对象 2"/>
          <p:cNvGraphicFramePr/>
          <p:nvPr/>
        </p:nvGraphicFramePr>
        <p:xfrm>
          <a:off x="5508720" y="3033720"/>
          <a:ext cx="20574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033720"/>
                    <a:ext cx="20574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矩形 4"/>
          <p:cNvSpPr/>
          <p:nvPr/>
        </p:nvSpPr>
        <p:spPr>
          <a:xfrm>
            <a:off x="1440" y="1251000"/>
            <a:ext cx="55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、计算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1032480" y="188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某不带权有向图如下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"/>
          <p:cNvSpPr/>
          <p:nvPr/>
        </p:nvSpPr>
        <p:spPr>
          <a:xfrm>
            <a:off x="250920" y="2338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给出其邻接矩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画出该图的无向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求该图的无向图的广度优先遍历序列，以结点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对象 2"/>
          <p:cNvGraphicFramePr/>
          <p:nvPr/>
        </p:nvGraphicFramePr>
        <p:xfrm>
          <a:off x="619200" y="3860640"/>
          <a:ext cx="156204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200" y="3860640"/>
                    <a:ext cx="156204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对象 4"/>
          <p:cNvGraphicFramePr/>
          <p:nvPr/>
        </p:nvGraphicFramePr>
        <p:xfrm>
          <a:off x="2763720" y="3816360"/>
          <a:ext cx="23716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3720" y="3816360"/>
                    <a:ext cx="23716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矩形 5"/>
          <p:cNvSpPr/>
          <p:nvPr/>
        </p:nvSpPr>
        <p:spPr>
          <a:xfrm>
            <a:off x="827280" y="59133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广度优先遍历序列：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BGF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2"/>
          <p:cNvSpPr/>
          <p:nvPr/>
        </p:nvSpPr>
        <p:spPr>
          <a:xfrm>
            <a:off x="576360" y="368280"/>
            <a:ext cx="59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分析下面算法（程序段），并计算每个算法的时间复杂度是多少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以及每个算法的最大语句频度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哪句？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1" descr=""/>
          <p:cNvPicPr/>
          <p:nvPr/>
        </p:nvPicPr>
        <p:blipFill>
          <a:blip r:embed="rId1"/>
          <a:stretch/>
        </p:blipFill>
        <p:spPr>
          <a:xfrm>
            <a:off x="934920" y="1700280"/>
            <a:ext cx="1371600" cy="730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4" descr=""/>
          <p:cNvPicPr/>
          <p:nvPr/>
        </p:nvPicPr>
        <p:blipFill>
          <a:blip r:embed="rId2"/>
          <a:stretch/>
        </p:blipFill>
        <p:spPr>
          <a:xfrm>
            <a:off x="1258920" y="3780000"/>
            <a:ext cx="1838160" cy="701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"/>
          <p:cNvSpPr/>
          <p:nvPr/>
        </p:nvSpPr>
        <p:spPr>
          <a:xfrm>
            <a:off x="3959280" y="1916280"/>
            <a:ext cx="33843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算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环，循环次数分别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但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以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倍的速度增长，因此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=i*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，最大语句频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3959280" y="400536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第二个小题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循环，循环次数分别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其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&lt;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因此时间复杂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；最大频度的语句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[i][j]=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，最大语句频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"/>
          <p:cNvSpPr/>
          <p:nvPr/>
        </p:nvSpPr>
        <p:spPr>
          <a:xfrm>
            <a:off x="647640" y="1341360"/>
            <a:ext cx="621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设有一棵二叉树，它的中序和后序遍历结果如下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   4   3   5   6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后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   6   5   3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画出该二叉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写出该二叉树的前序遍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该二叉树的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对象 2"/>
          <p:cNvGraphicFramePr/>
          <p:nvPr/>
        </p:nvGraphicFramePr>
        <p:xfrm>
          <a:off x="4557600" y="2744640"/>
          <a:ext cx="190512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2744640"/>
                    <a:ext cx="190512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Rectangle 6"/>
          <p:cNvSpPr/>
          <p:nvPr/>
        </p:nvSpPr>
        <p:spPr>
          <a:xfrm>
            <a:off x="698400" y="5568120"/>
            <a:ext cx="131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该二叉树的度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"/>
          <p:cNvSpPr/>
          <p:nvPr/>
        </p:nvSpPr>
        <p:spPr>
          <a:xfrm>
            <a:off x="276120" y="512136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二叉树的前序遍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"/>
          <p:cNvSpPr/>
          <p:nvPr/>
        </p:nvSpPr>
        <p:spPr>
          <a:xfrm>
            <a:off x="395280" y="1015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四、阅读算法题（每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，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函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GetEl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实现返回单链表的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元素，请在空格处将算法补充完整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 GetElem(LinkList L,int i,Elemtype *e){//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表示单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inkList 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 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=L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(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&amp;&amp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&lt;i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　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=p-&gt;nex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++j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f(!p||j&gt;i)  return 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*e=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微软雅黑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-&gt;data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日期占位符 1"/>
          <p:cNvSpPr/>
          <p:nvPr/>
        </p:nvSpPr>
        <p:spPr>
          <a:xfrm>
            <a:off x="7632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71280" y="890640"/>
            <a:ext cx="864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下面的算法实现单链表的按值查找功能，请将算法补充完整。链表存储结构中，按值查找的时间复杂度是多少？（假设链表规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tem * Link::Locatex(DataType 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tem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=head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hile(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!=NUL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&amp;&amp;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-&gt;data!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p=p-&gt;nex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f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ut&lt;&lt;x&lt;&lt;" is not exist!"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4" descr="母版_图片2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谢谢大家"/>
          <p:cNvPicPr/>
          <p:nvPr/>
        </p:nvPicPr>
        <p:blipFill>
          <a:blip r:embed="rId2"/>
          <a:stretch/>
        </p:blipFill>
        <p:spPr>
          <a:xfrm>
            <a:off x="3816360" y="2168640"/>
            <a:ext cx="4753080" cy="133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鞠躬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63640" y="148428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863640" y="2529000"/>
            <a:ext cx="702144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线性表的逻辑结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线性表的长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顺序表的特点（存储空间是连续的，元素是按逻辑顺序存放的）；会写顺序表的插入和删除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顺序表中插入元素，平均移动次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95280" y="1557360"/>
            <a:ext cx="8748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顺序存储的线性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知道链式存储空间的特点（存储空间是可连续可不连续，元素之间的逻辑关系可不一致，但由指针域确定）；适应于不断进行删除与插入操作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会写单链表的插入和删除算法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单元 单链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879480" y="1521000"/>
            <a:ext cx="729288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知道栈的特点（先进后出）；会写进栈与退栈算法，入栈与出栈序列；栈顶元素的变化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队列的特点（先进先出），知道队头与队尾指针指向何处；会写循环队列的入队与退队的算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已经入栈序列，写出可能的出栈序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元素循环队列中，队满时具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-1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个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循环队列的容量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，现经过一系列的入队和出队操作后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front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a,  rear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，则队列中元素的个数公式：队列元素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=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（尾指针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b-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头指针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a+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队列容量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）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%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队列容量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判断满循环队列的条件是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front==(rear+1)%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814400" y="404640"/>
            <a:ext cx="5762880" cy="7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栈和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1187280" y="2349360"/>
            <a:ext cx="66978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的定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串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串和空格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Str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511280" y="1557360"/>
            <a:ext cx="576108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1187280" y="2816280"/>
            <a:ext cx="6697800" cy="30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树适合用来表示元素之间具有分支层次关系的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空树的概念；树的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会用二叉树的性质，不要求证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079640" y="1592280"/>
            <a:ext cx="741672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树与二叉树的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二叉树遍历的定义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给出二叉树的前序序列和中序序列，能画出二叉树，并能写出后序序列（考查学生会三种遍历的思想）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cc"/>
              </a:buClr>
              <a:buSzPct val="50000"/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微软雅黑"/>
              </a:rPr>
              <a:t>会写三种遍历算法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</a:rPr>
              <a:t>单元 二叉树的存储与遍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3"/>
          <p:cNvSpPr/>
          <p:nvPr/>
        </p:nvSpPr>
        <p:spPr>
          <a:xfrm>
            <a:off x="469584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1800360" y="2928960"/>
            <a:ext cx="6697440" cy="30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理解图的概念，会求完全图（有向，无向）的边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一个图能画出其关联矩阵和邻接表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,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理解图的二种存储结构的思想；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画有向图的无向图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写出图的二种遍历（深度 广度）结果，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考查思想，不要求算法实现</a:t>
            </a: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顶点的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图的入度和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2808360" y="441360"/>
            <a:ext cx="392436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第</a:t>
            </a:r>
            <a:r>
              <a:rPr b="1" lang="en-US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单元 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5:18:13Z</dcterms:created>
  <dc:creator>边长生</dc:creator>
  <dc:description/>
  <dc:language>en-US</dc:language>
  <cp:lastModifiedBy>CDX</cp:lastModifiedBy>
  <dcterms:modified xsi:type="dcterms:W3CDTF">2017-04-20T01:12:21Z</dcterms:modified>
  <cp:revision>642</cp:revision>
  <dc:subject/>
  <dc:title>2001年1月25日学院督导研讨会</dc:title>
</cp:coreProperties>
</file>