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045-0F94-44D7-80BD-38E263A6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800-E3F1-4CFF-91DA-94CB7EC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1C2C1-E027-474A-AAF6-E881399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A5735-9D3F-4056-8AD1-9E0F6B4A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F37E-8079-4D84-BAEB-D4810923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D1414-B83F-40BD-9410-EC7C7F3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BD121-D4BE-4128-B1FA-DAD6912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9292E-60F5-46E7-BB20-5C42430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12CA-6555-47B6-8845-4DCDCEDD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53608-4C03-4045-9598-02D8041D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19F14-E9C5-4C89-8DB9-773746EF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ABD42-4FC8-491A-A127-1726ED32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C9A-254C-4236-9D16-90EAE8C3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2CB5-4B7C-4B2D-8901-9343008B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F61BE-429F-4A5C-AB73-F3CFD9F2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5DAFF-B978-4BF2-B622-7DD6453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84BDC-E765-4B17-BE2F-B136A9D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E0980-A6C0-4B83-85C5-582EA03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7D717-7BC0-4B7A-968C-00179DB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411CC-5CC1-4FE7-8DDC-F6AED56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6855D-F053-4464-9566-C25CFC07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417C5-8A83-4EA8-B1D8-CDDCDD7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C0DF9-D65A-45FF-A489-F3E8A0BA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D24-26B3-494A-9A2A-081665AC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9D8A-320E-4217-8418-6DA80D4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89B7E-B677-4932-906A-6F993526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85393-EB3A-4CD3-89AC-F4873AA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9352-8951-48D9-BAFF-E629C79E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349BF-CCCB-40B0-987F-4CE7D79D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B87E6-41E3-4694-9BE7-AA3D76C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587A-4C91-4B5D-A8F2-7EC8C01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0C4EC-6B4A-44F9-92A5-4E7FA09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F901B-8B91-4575-9BDE-F458576D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E672E-D336-4B3E-8F62-7EDDC26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1EC-C7A2-40A7-BDFC-F3C21B21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05526-EA3A-4B4C-B12A-957005F5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9514C-6F9F-4048-9309-8F62F21A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6FBD8-295A-4B8A-9731-97E2BD76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4B022-C6F7-4681-BFB5-8D3601DE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DA16-3501-4937-BF97-D725A5C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6EAB8-991E-4CFA-8A33-4C735ADB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78EA8-0EC4-4FAC-B6FA-C6C6C24B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574D9-0F7C-45A3-889B-7B9634AD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76DE8-7382-4294-BDD7-C4A30ABA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C9114-04AD-4123-BBC5-23B2FC9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87AA-D8F0-4988-B901-64259063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D4E59-7FA7-4701-AC50-C3117B7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01F07-8241-4E34-81FF-FBD6404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0D146-D4F8-40B4-8F3F-909060F6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B0974-7943-41A5-A5F8-BE11FB02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65AF7-B01D-4A42-A21C-0271D496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39D40-0112-4EF3-BEEB-CEFD833B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7C9DB-936E-45B0-B7D7-5ECD6E8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D9964-370B-4FD1-B90F-113C4C57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10E48-9363-4615-98F8-7BC9C1E4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16A52-216C-4B5F-ADA7-277F6611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CEA-F077-4F72-9560-EFD0D46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0434A-FD40-4BF5-A26B-A2D5E89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41512-D477-4A17-929A-3328089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16E2E-D614-42CE-B6BF-E7333C3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854CD-FF40-4EBF-B447-F93B5B3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F144A-C0E1-4479-A119-AA3C80D9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7A875-B2A9-4EA1-B41F-DACD212B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CEEDA-2117-4B87-9D78-535CA01F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C1FD0-8C6F-4BA5-976A-67683B29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BF172-D26F-4277-A985-A107367C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66F7C-E7F9-41DF-AC87-DFB62F5F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7AD-4129-46FD-97E0-AD98EE76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73FC4-EAE1-443B-899A-E623DB0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32F81-4BCD-4036-9F08-3AFA77E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24C70-0810-4166-8BA2-CF72FC9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6DA4D-E067-45BE-89E8-79DD002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0B7C3-4BD6-4699-8979-3073E9C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E0E87-B72B-4C1E-80BD-503351A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7E293-10A7-406F-ADEB-DB9CDCF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70901-A176-4DEE-959C-583FF09D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9F4B9-844F-4F9F-8A19-D7784341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D3478-5E53-435A-AC73-29513355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1B59-56C4-4EA7-A0ED-A867237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A139E-5412-43EE-B7BE-802A0A01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8B0B2-57D8-4513-8083-E32B9119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7B2B2-276C-4D22-93AC-0AF75291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F332B-66CA-46B6-9E40-4CE5B3E8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57D3E-11D8-46A2-90C4-D56A17F9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B6A7F-7DF3-489B-A1A6-B4881076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EAD62-AF41-4DE6-8CEA-4EF36AF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8A816-6D59-46D2-AA56-AA65831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728D8-5C6F-40E1-844B-52BC179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4E20C-E462-40DD-9CF0-D37ECF74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14C-862D-4DF6-93E8-337CC256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2161D-AFFC-4813-B304-05B8D4E9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A7110-F200-4A7D-9802-FAC2F8FE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F6B95-56CD-4287-8EC6-D656D7D7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D3724-13BC-4505-B3A4-7978D01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F56F7-D174-472E-BA6C-4E8C11E9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AB6DD-B9A3-4B16-B637-A1B71135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7487D-D5A2-4B98-A977-7132EC63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C797B-C284-49A5-91A3-B246DFA6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AD248-B75F-46B7-8404-47D4549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84DAF-F50D-4789-BE9D-8C50535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C4B2-90F5-4BF5-97FB-3266C17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ED72D-6841-457B-BD62-95686D22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3BB4A-5315-41F5-96BD-E17B0254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E4DF8-D9AB-4C51-AD20-D7687249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F9DA8-B3F3-43A8-A614-2C0C53D4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E129A-00AE-4ABD-95E1-7C3C12CD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15A19-85D4-483C-8B87-FC54930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504CE-9CE4-42A8-9DA0-93299F83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A798D-04DD-4269-BB3D-B83EADEC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3B780-5857-4247-BF33-BC0D3BF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64322-E04F-4348-9C6F-D291BD2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389-89E4-425C-8E0A-7D7227E7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81E4-7F7A-4415-B3F2-31DA89C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D2872-EDBB-4945-B72D-1346D191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D9C23-2960-462F-AA06-63462C7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6B7F9-E071-4AB0-9D90-FD108B99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C8783-A469-4BC3-9D56-D19196E6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A8F52-92CE-4674-8026-50AEA289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1AC-A700-47A8-86E5-6AF7AC4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891-E14F-41A5-87DE-521F2DF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E71E-ECF8-4B81-B845-0BC16807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01A5-B0A3-4B21-AC95-13AECDFB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645F-7A63-48A6-B51F-71140119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001B-1796-42D8-94E0-90C18228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32A8-89C7-4D63-BBCE-C476225F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3DA1-ABA7-4D7D-93FE-3C1A360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7DAE-DF21-4672-B638-9E3A0FE3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1B6-66ED-417E-A64E-D26CD688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B675-CE27-4C9B-8281-37600D07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9DDB-6A21-49F7-A253-CFBCB8A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36CC-2128-44E0-930E-84843E5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7472-7F3C-4032-B79A-CC83045A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682C-96DB-4B7F-A02D-6DA02C5F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04BF-B40E-4EC3-81E2-24CF41C3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9911-BC31-449B-B554-A7529061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8D01-8C10-42F0-B0C6-E256F152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AD11-49EC-4F4C-A7F6-ED53CF6B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B675-4DEA-41A6-A77F-08F4FAC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746-E1E7-4F7A-AFB2-877CD52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290E-45AA-4A79-8480-2CB36F5D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C0BAA-3724-41E1-970D-AB1BA3BA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DC92-78A2-45EE-B1AA-1BD4F30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5DCA-C779-4D0B-B7F4-BAB2AA3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B707-624D-41B7-84CC-A04C287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A8D0-B1AF-417C-912E-9526F25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567E-7185-474F-88F4-1EABA2C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E06B-86ED-41EC-9914-480E9F3E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DB42-1616-4F3B-B559-2160FA9C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587C-A22A-4DF8-B627-BA0516FF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8A0-E6F4-4815-8BCD-FAFED96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65FF-A941-40C1-A4FC-F1358341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7278-1858-4FCB-B2F0-B6362202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6482-3ED8-4910-A62C-5F3B1F4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4626-42B4-4872-9490-0E7FCB6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06A2-2408-4EFF-B494-9037B6D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02589-F142-4B35-B4AC-FEDA975D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5B75F-3CBA-4C95-99C2-F3A3EB9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5319-CCAD-4273-8BAC-049E24C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E1B71-8ED8-4E69-8E7C-4904EA5F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8488-6B20-49A8-93AA-EBB5FA4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201-BA0B-404A-9253-C770A4F0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1708-5258-4189-8C15-412D9F9A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4E76-4CC1-4D30-BBC1-20A102BF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011E-7B37-40CD-A659-BF38BFE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38AA-4CCC-420A-9163-3F1557CA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3B90-70CD-4158-81DB-1E5655C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38D7-5841-48E2-B0DF-649350E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4EB96-3D61-4DD0-9E73-8856F610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8015-799B-4BDA-A067-0A2D719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C6DB-F345-44FB-A706-CFEC9605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D681-B2EC-4654-98C4-3B9C970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AB2-FA82-4E72-BB1E-A84448F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55C8B-4D53-4B1F-B5A1-99DB7C7B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63265-726B-4B15-A42C-16BD27BB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E31F-380D-4AC7-BBF8-CB3872A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3A645-4E72-4C3B-98E6-BE078574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1C87-2B79-4D41-88B7-C3DD0A7C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E919-C8F4-496A-9B22-A7C57F78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6EDFF-2093-4AC1-A98E-A16B3CC2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EE83-5DCF-4D97-9F97-1F975837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DFC4-CEAE-4075-9273-EA2BD74C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5547-5003-4303-AAD9-68493CB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803-AB3F-491D-871A-564661E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C828-887D-4956-8E29-E61C316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3247-2787-44D8-8396-E76312C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E70F-9675-4038-B166-39CFC990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9F542-1F91-4D07-B44B-5E866B77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3D672-F8A5-498F-8874-7A934729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B8F9-0C9C-4DAB-B089-54E7C303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C576-0626-46C5-A13F-700CF664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29B96-0A8A-461D-9650-8D7E03E9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26D1-4925-4A3A-BC0E-B62536B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6BC0-A82B-4905-80EB-1A8CDD28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9FA-A55A-4981-9493-A27D252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EB95-7034-4CC2-B0AD-6D3AAB9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8F58-5AF6-40FD-9AF9-A78F972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08EE-397B-41BE-976E-7A931E02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6271-D2E5-4F24-A475-20D6C359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92E2-AEBD-45B2-9F5A-8B6BEFF2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E4923-0135-4B2A-B03F-66D86BB1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215C-FFDA-477E-B06B-C68FA1EF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ED238-24C0-44A3-A158-7A272F79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42FBC-95FD-4BD3-8CB7-AC365D49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3ECF-5F57-4C66-90A8-3D79429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E7D-2A28-4591-8BB0-01D1C2D9461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78BD-5A48-40DC-AC06-5B668E42021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10E-ED3C-4C4E-93AB-6E8773CC27C5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F37-D286-4EDA-917F-0FF14F3997A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6850-4A53-41A6-9431-DCC04A6EF93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E47-2FB7-434B-88A0-ABEB00C5BE2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A454-39FF-40A8-A696-2A24665DB54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940B-EE50-43EE-99EB-28092012CD4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435-248F-4D7D-8B63-523DC60DFAF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6C2-6658-43EA-AFB5-AE646DD7387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7C31-77C8-4952-A6BE-AFAD3E2C239A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74CA-9A62-4C84-8D5F-F7192817AEE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E092-53E7-492A-A546-F425D2AEB148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6A1-DD58-44CD-BF24-0C4E8726A5C3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C904-5894-43B9-9335-5C65A99ABCCB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FBCF-5BC8-47C9-BE19-72AD457BB08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6404-1868-4101-9FE3-DA78CC3CF161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WordArt 5"/>
          <p:cNvSpPr txBox="1"/>
          <p:nvPr/>
        </p:nvSpPr>
        <p:spPr>
          <a:xfrm>
            <a:off x="2567160" y="1484280"/>
            <a:ext cx="720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经济法考前串讲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177" name="矩形 1"/>
          <p:cNvSpPr/>
          <p:nvPr/>
        </p:nvSpPr>
        <p:spPr>
          <a:xfrm>
            <a:off x="3119400" y="4621320"/>
            <a:ext cx="609588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Gothic"/>
              </a:rPr>
              <a:t>杨桂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018.12.1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1" lang="zh-CN" sz="4000" spc="-1" strike="noStrike">
                <a:solidFill>
                  <a:srgbClr val="262626"/>
                </a:solidFill>
                <a:latin typeface="Century Gothic"/>
              </a:rPr>
              <a:t>消费者权益保护法</a:t>
            </a:r>
            <a:r>
              <a:rPr b="0" lang="zh-CN" sz="4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0638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1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消费者概念和特征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《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消费者权益保护法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》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的宗旨和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消费者有哪些权利？具体表现类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经营者有哪些义务？具体表现类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承担赔偿责任的主体和归责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821960" y="228600"/>
            <a:ext cx="85410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 u="sng">
                <a:solidFill>
                  <a:srgbClr val="262626"/>
                </a:solidFill>
                <a:uFillTx/>
                <a:latin typeface="Century Gothic"/>
              </a:rPr>
              <a:t>第四编</a:t>
            </a:r>
            <a:r>
              <a:rPr b="1" lang="zh-CN" sz="4000" spc="-1" strike="noStrike">
                <a:solidFill>
                  <a:srgbClr val="262626"/>
                </a:solidFill>
                <a:latin typeface="Century Gothic"/>
              </a:rPr>
              <a:t>：宏观调控法律制度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77444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我国的财政法体系（收入和支出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预算的审查批准和执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国债的特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税收的特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我国的流转税范围（增值税、营业税、消费税、关税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6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所得税的范围和个人所得税的税率及减免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7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我国的税收管辖权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银行金融法律制度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919160" y="1483920"/>
            <a:ext cx="8367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中央银行的地位和职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商业银行设立要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商业银行与中央银行的关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政策性银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经济法考试题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单选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，每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多选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，每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判断对错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，每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案例分析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问答题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）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经济法体系各部分的比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一篇：  经济法总论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二编： 市场主体法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 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三编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: 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市场规制法 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第四编： 宏观调控法               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第一篇  经济法总论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98108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概念的由来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的定位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的体系和法律渊源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律关系的三要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第二编  市场主体规制法律制度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809360" y="1499760"/>
            <a:ext cx="8572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主体的类别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管理主体的职权与责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经济法中的企业法律形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企业的设立条件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个人独资企业的特征和设立条件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6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个人独资企业投资人的条件、权利和责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7.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合伙企业的特征和设立条件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8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合伙企业的法律问题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8478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Century Gothic"/>
              </a:rPr>
              <a:t>公司与外商投资企业法律制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84788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概念和特征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分类： 股份有限公司与有限责任公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母子公司和总分公司的区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设立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5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公司的合并与分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6 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外商投资企业的管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）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股权比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（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） 管理机构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）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Century Gothic"/>
              </a:rPr>
              <a:t>分配利润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7.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中外合资企业与中外合作企业的区别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 u="sng">
                <a:solidFill>
                  <a:srgbClr val="262626"/>
                </a:solidFill>
                <a:uFillTx/>
                <a:latin typeface="Century Gothic"/>
              </a:rPr>
              <a:t>第三编 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:</a:t>
            </a:r>
            <a:r>
              <a:rPr b="1" lang="zh-CN" sz="3600" spc="-1" strike="noStrike">
                <a:solidFill>
                  <a:srgbClr val="262626"/>
                </a:solidFill>
                <a:latin typeface="Century Gothic"/>
              </a:rPr>
              <a:t>市场竞争法律制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981080" y="163008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竞争的作用和立法模式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发达国家的竞争法的立法状况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不正当竞争行为的概念特征及其具体表现形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假冒行为、商业贿赂、商业诽谤、虚假宣传、不当有奖销售、侵犯商业秘密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5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垄断的概念和特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6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反垄断法一般规制对象和特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垄断协议：分类（横向和纵向）和表现、豁免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滥用市场支配地位：市场支配地位的界定标准及滥用的表现形式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Century Gothic"/>
              </a:rPr>
              <a:t>经营者集中：类型及审查申报标准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7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行政垄断的特征、表现及规制对策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8  </a:t>
            </a:r>
            <a:r>
              <a:rPr b="1" lang="zh-CN" sz="1800" spc="-1" strike="noStrike">
                <a:solidFill>
                  <a:srgbClr val="404040"/>
                </a:solidFill>
                <a:latin typeface="Century Gothic"/>
              </a:rPr>
              <a:t>反垄断法的适用除外原则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zh-CN" sz="3600" spc="-1" strike="noStrike">
                <a:solidFill>
                  <a:srgbClr val="262626"/>
                </a:solidFill>
                <a:latin typeface="Century Gothic"/>
              </a:rPr>
              <a:t>产品质量法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99224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1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的界定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2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质量监督管理制度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3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生产者、销售者的产品责任和义务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4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责任与产品质量责任的区别 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5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缺陷和瑕疵的区别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6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产品缺陷赔偿责任的构成要件及赔偿范围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entury Gothic"/>
              </a:rPr>
              <a:t>7  </a:t>
            </a:r>
            <a:r>
              <a:rPr b="1" lang="zh-CN" sz="3600" spc="-1" strike="noStrike">
                <a:solidFill>
                  <a:srgbClr val="404040"/>
                </a:solidFill>
                <a:latin typeface="Century Gothic"/>
              </a:rPr>
              <a:t>缺陷损害赔偿责任的归责原则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09:53:48Z</dcterms:created>
  <dc:creator>ibs</dc:creator>
  <dc:description/>
  <dc:language>en-US</dc:language>
  <cp:lastModifiedBy>海峰技术</cp:lastModifiedBy>
  <dcterms:modified xsi:type="dcterms:W3CDTF">2018-12-17T00:40:16Z</dcterms:modified>
  <cp:revision>5</cp:revision>
  <dc:subject/>
  <dc:title>经济法考前串讲</dc:title>
</cp:coreProperties>
</file>