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  <p:sldId id="299" r:id="rId58"/>
    <p:sldId id="300" r:id="rId59"/>
    <p:sldId id="301" r:id="rId60"/>
    <p:sldId id="302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slide" Target="slides/slide44.xml"/><Relationship Id="rId59" Type="http://schemas.openxmlformats.org/officeDocument/2006/relationships/slide" Target="slides/slide45.xml"/><Relationship Id="rId60" Type="http://schemas.openxmlformats.org/officeDocument/2006/relationships/slide" Target="slides/slide46.xml"/><Relationship Id="rId61" Type="http://schemas.openxmlformats.org/officeDocument/2006/relationships/slide" Target="slides/slide47.xml"/><Relationship Id="rId6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57151-1969-49FB-801B-7B8738205C19}" type="slidenum"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6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C47D4-7DBA-4438-A031-166F05CAC7D5}" type="slidenum"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7FE7D-3196-407E-A625-F79E77830F41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23DB7-D42C-46EA-B429-379916B28587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CBA41-0900-444E-87D7-6CCD86336E46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28E81-B676-4DE9-8D2B-7D7D36499F09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9420B-352A-4DA3-97DF-36DCE362030E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6E2CC-778E-4D13-B29F-B486C5EAD3CD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506FB-4F6F-4670-86C3-F5FF420B2801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thi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用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tatic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方法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707AB-01F4-487A-8153-C35CD9310A64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AF1EB-CC79-474D-9BF0-7DD4BB3F0B08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201EF-5825-48CD-BE14-902C047D8AF5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D8C33-F21E-48A2-ADB8-7B7FBF56AAB3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43155-CF98-4EDE-BDA0-CF3AFE5A6857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5F3DF-779A-45CE-BFDD-759710CB0AC8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1F825-A9AC-4F4F-A6E6-4D75541B841D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550A9-462F-44F8-B9A9-D6CCDB7BC15A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类体中的数据成员的声明前加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tatic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关键字，该数据成员就成为了该类的静态数据成员。静态成员是可以独立访问的，无须创建任何对象实例就可以访问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ons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值是保持不变的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7E3D8-C700-4600-BAF0-FB9F94DB5664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57DE4-C976-4860-9E51-C557B2A5B013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9A3FC-00ED-47FC-B2A9-1B60058B8B0E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36CF3-8272-41D4-BD1E-0AD4FDC48059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++ const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允许指定一个语义约束，编译器会强制实施这个约束，允许程序员告诉编译器某值是保持不变的。如果在编程中确实有某个值保持不变，就应该明确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ons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，这样可以获得编译器的帮助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ons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饰指针变量时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1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有一个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ons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，如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ons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位于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*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左侧，表示指针所指数据是常量，不能通过解引用修改该数据；指针本身是变量，可以指向其他的内存单元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2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有一个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ons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，如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ons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位于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*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右侧，表示指针本身是常量，不能指向其他内存地址；指针所指的数据可以通过解引用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3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两个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ons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，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*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左右各一个，表示指针和指针所指数据都不能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81C45-A1B7-45A2-AE5D-E95893E1206C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F56B9-C3B5-4334-B143-A34F53CDD90E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AB80F-D530-469C-A35D-524541544803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35F9B-49D0-4B25-9110-E37695B96257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重载函数是函数的一种特殊情况，为方便使用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++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允许在同一范围中声明几个功能类似的同名函数，但是这些同名函数的形式参数（指参数的个数、类型或者顺序）必须不同，也就是说用同一个运算符完成不同的运算功能。这就是重载函数。重载函数常用来实现功能类似而所处理的数据类型不同的问题。不能只有函数返回值类型不同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264F5-E057-4697-AFE1-5E66E0CEF509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8CE18-EC6E-4C93-A92B-A98551CFF66F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EF5E4-921F-42D9-83F2-9DA6A3F0C6FC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43242-6498-40A8-9380-F66128534FFC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B04A7-A358-453E-A2E2-5961C546D5F5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57641-AF88-448A-A2BB-5D06B5F9B9B0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1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 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ons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饰一个函数，表明其是一个常成员函数，不能修改类的成员变量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81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 构造函数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R(int r1,int r2)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析构函数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~R(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81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 程序运行的结果是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81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5: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81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0;5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1473E-45F1-4A41-9E4F-DB04B3534680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75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5DFB4-3CB1-475F-ABE5-5AEFD433FDB9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76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36395-48E5-4349-8EF9-39F96C7B2692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76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7D97B-253F-42DA-903B-58390A65F5A0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AE3B0-793A-4517-879B-F1BA184926AC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58F5D-33E2-4871-9C6B-26EB8FEB134B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1BCCB-B397-4A4C-BBD4-950096487249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20FA9-6AB6-452D-B060-33C464747952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71919-BB0D-4774-A2CA-5AFE89235D60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7C15-C1EF-4DB5-8F1F-A4D9D42CB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74E4-6276-4C91-B1AE-5B5CA627D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C8F855-2C05-4032-862F-F26DA942A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0A33E5-C747-460F-9029-477E4736B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lnSpc>
                <a:spcPts val="29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1A4CEC-D8A9-4EB9-ACC2-B02AE5397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7055CF-7006-4054-B6CC-6569CC46D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767B65-9783-46C8-9828-20F094729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13647F-227D-483F-AB86-19B7CB6E5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3FEA2A-4BD6-44A8-AC1C-8637F2B9D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1CD010-D776-4940-9F9C-E2154EC71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A2BD2E-9565-4CDA-8574-7A3827172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82840E-DB68-44F8-8BEC-6C64E7AD4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9FB9-81C2-44A6-BEE3-B22D91B33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lnSpc>
                <a:spcPts val="29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D8C3E2-69E5-4F54-8246-31BD32331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995773-ED05-41A1-81AC-13856F92E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6F2997-F30B-40B4-8893-893E353A2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7F0673-D0A6-4495-A74B-88481E944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lnSpc>
                <a:spcPts val="29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03FF52-1118-4AB9-88CE-3A8D9E7E0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D908F9-5432-452D-8E69-C0A59C85F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47DAC3-0436-493A-B88A-60CFD2085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06FF01-016F-45FD-8145-6697C8F0B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4197ED-9F8C-42D4-9F8A-68F14EA3E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4CBF18-EE68-44E3-B27D-A95387DCB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7F4E-5362-4950-B537-04538B8F2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467C85-AE28-4AE8-8884-634B7B364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27862C-9423-4302-BE39-168C11E2D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lnSpc>
                <a:spcPts val="29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AC3BC3-5D4E-4262-9E07-5C6FA5F95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E2677B-EBDA-4B4C-9DE9-6D7ACBC6B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A8D480-1EFF-427F-A901-DD2A48F4A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75B091-4389-478E-A103-F9C8834AF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lnSpc>
                <a:spcPts val="29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59BBEB-3A40-4BED-AA50-F9A35C6CA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795F4B-3FE9-4025-85A4-211F100DA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6F6074-BAF7-4BC8-8E5B-1E38C2E3B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6A379B-204F-4060-BE75-DAF7F2A38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B050A-D6C8-44B2-9957-BFDB2C3CF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838431-E7DE-4AE2-B693-757C3EF08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8B1E80-0D97-4022-B844-9B17D38AA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8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DAB80E-2B7C-4984-8260-7DEA685FC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2D88F1-BF61-4007-8E4C-3B6F336A3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lnSpc>
                <a:spcPts val="29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6973B3-AB78-4496-B5CF-0B0F3E3F8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E80285-F1D3-4F8B-B393-04CE6E8F6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F57EC8-6488-419B-B44C-1286AE555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0FAE69-3414-4B9E-8A62-B0EF016C4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lnSpc>
                <a:spcPts val="29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F3CAE2-09E6-464B-89C5-C7B1BE3FE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935934-12AD-40ED-A639-082FF0C57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lnSpc>
                <a:spcPts val="29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916BE-F771-482A-AD5D-1A01DD66C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93E528-8833-4D6E-B519-FCD2227A9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3FE026-877A-4EF3-B3DA-A4A65E8A3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687D2C-C835-40DC-B19E-FBD53B9FC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AF0C64-F917-4A0A-9F0D-A5329925F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AF012C-233E-40B7-9B14-033556B87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64EE6-4C9B-40EC-8351-22B3AE13B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F5AAF-0EA9-4955-9336-E6AB544EB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AC448-56D9-477B-B60C-0472DAA4E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lnSpc>
                <a:spcPts val="29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4117B-2946-493D-B093-D1A5627BD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90810-A90B-48B4-A0F3-B2F550DE5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lnSpc>
                <a:spcPts val="29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D647-EFAC-4182-8975-3116779B2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CE1C3-5EAB-4122-AD9B-879FA7D6F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9B9DA-6841-464B-9483-64F2AB147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3D860-22BD-45D2-AC2A-D1568DBCB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54AEF-8478-4ABF-A4D9-1F6F24026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A409A-D39E-40F3-9A74-8CAEA34AD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76087D-81F0-49E5-AADF-E84150795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lnSpc>
                <a:spcPts val="29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61133C-DD9E-4E97-9D06-AF42B918C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5DC268-6DBD-43F7-BA05-3C0EDB83D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257B2F-8E19-4363-A9F1-F39B298AE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842E34-E860-4BEB-9ED3-035BB440E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08F0-1403-4531-B1D6-C7BD401D3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lnSpc>
                <a:spcPts val="29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B57E3C-CAC8-4724-863D-AF3533303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DCC8C4-78A6-41D5-B23A-7E7FBD293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C90D0A-A85B-4DD1-A5A7-817DBF6ED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A92F46-938C-4858-931B-780B0C3D5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1A9A9B-73E5-47A6-8045-F5B260334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ECF540-1EDC-4FAB-AE5C-0520C70EA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BEBFCF-6466-4506-87B8-AC1D8FE59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2E4F64-4128-4A50-836E-16AC0F645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lnSpc>
                <a:spcPts val="29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1EEF7F-0B7B-48E6-8A4D-47CF696C7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DBA0F1-7FAE-4A85-83A7-2E1F3596C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69E5-61A7-4E83-8682-B51C8BA6B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C9539F-C4AE-4F9E-AD6E-3CE5D9766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88B6E3-5C5B-4AE2-836B-0733E7AAC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lnSpc>
                <a:spcPts val="29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ED7AE5-AA6F-4A03-BBD1-724448A40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269E63-2499-46EF-886B-67C3A66AC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BBA103-C772-4D1E-88D4-8B610D5D9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4CA806-D9ED-490B-AAD6-65D0C45D7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1211B9-0129-4F13-83D1-FA777A551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D87799-AB2C-4969-90A6-0401D6A32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A9FBBB-78A8-4669-9854-19759042E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650646-2D09-493F-B893-DEE75A474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C8F9-9A80-4402-8756-DE6DFB0A5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lnSpc>
                <a:spcPts val="29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C48044-A154-4E0D-B53E-895FD948C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11B062-B3D7-4825-B6F1-8EED962EE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F612E8-AC8B-43F8-85B9-12CDF0382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D36431-97B6-4399-B29D-5D36B5681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lnSpc>
                <a:spcPts val="29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DBC14F-B55E-4F6B-835F-A7D0E40BE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693645-CDC5-4D45-B63D-5B1157FF7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0A7400-1B4E-45A8-8A34-1897424DA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8A6BD6-28DA-4626-8124-76E176AE2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514766-7162-4F61-8972-1E643351D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685F95-B7F1-4C80-A0A9-A6179CE5C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lnSpc>
                <a:spcPts val="29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73F0-FFE8-4004-AD43-82A18FF83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C90F38-FD52-4403-994A-E8B9E3EAD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5E19CE-4B51-4AC3-8858-F35A681B6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lnSpc>
                <a:spcPts val="29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162803-47A9-4407-AB4A-D8408A28E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21A36A-2169-4446-BAF9-EF58A2BCE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C0D6DF-97E3-458E-A3C2-C0AF605C2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20BC87-1BF0-4584-B8D8-22665847C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lnSpc>
                <a:spcPts val="29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E1595D-E949-46F4-8B27-E7F007803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6D397A-766C-49E6-AE29-955BF2B7A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93F42E-3392-45C7-A359-E7FA789AA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2237CE-C6C2-4AC3-9276-0DC11FE31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9AFB-ABA8-44C3-A2A7-9E3494A65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49BFC6-AC1D-4D90-AF9A-3C8535823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36F005-2B50-433B-B54C-A51D515D4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B43C3A-DC55-4645-A84F-DB79B9102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02DE40-BCFC-4149-8F28-D21A6A735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lnSpc>
                <a:spcPts val="29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E2768D-DBEA-41B6-A1E7-1CE36D0C2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940008-C029-4556-9BA9-83317424C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BB8DE0-9484-4FE1-9187-069020776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4372D7-0E9A-451C-8998-2AB3D7223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lnSpc>
                <a:spcPts val="29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C54424-651B-4A80-AB4E-B022DCFEE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8647B2-894E-4A75-8C9D-7D7AA0DA2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FF50-F5FF-4895-B05A-E5122209C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E5071D-F2B2-49DE-AB96-893A342A2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087B82-6B7F-41A6-899D-71D9A2B21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C6A93B-4970-4219-9C5A-A50D8F1E7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08E626-B492-4A86-9A94-485C41B10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E9A439-EADF-4051-9967-9A09A38DC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FE515F-D202-4A25-B986-055AB0C65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lnSpc>
                <a:spcPts val="29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4BB03F-052E-457A-BC53-DAA9EC554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FB87BE-974A-4454-AAF1-9A4618D26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97FB16-2773-4F9E-B2EA-1A922A5EE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FD90D5-5DA4-46A5-8C9F-E2F21A422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F8B8-6748-4237-B3BB-93B09FDF3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lnSpc>
                <a:spcPts val="29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4A2FEC-31BC-45BA-8173-1F78BCC03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F5D66F-0361-4D06-B6E8-4B65C8FD0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FC039F-2337-4347-9D2F-7B7BC86D0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70C248-536C-4C17-A91A-119E5E63A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6D64DB-AC18-44AE-AD2B-5CB0DEC7C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A9D9B8-8E81-4BAC-A6C4-F70148B0F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6F64FC-B4D4-4583-BB33-D9140000D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A3C718-1414-4297-B0E1-E26EEAB95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lnSpc>
                <a:spcPts val="29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C2411D-DCC0-49DE-8C99-3A0B0A716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1130C7-CD6B-4925-899E-9E590F02A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ts val="2999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ts val="2999"/>
              </a:lnSpc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ts val="2999"/>
              </a:lnSpc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lnSpc>
                <a:spcPts val="2999"/>
              </a:lnSpc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lnSpc>
                <a:spcPts val="2999"/>
              </a:lnSpc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lnSpc>
                <a:spcPts val="2999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lnSpc>
                <a:spcPts val="2999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DE9D0-CA51-46D4-8320-DED5606BBBE7}" type="slidenum">
              <a: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5" name="Rectangle 7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416" name="Rectangle 7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7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418" name="Flowchart: Process 8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9" name="Flowchart: Process 9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ts val="2999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ts val="2999"/>
              </a:lnSpc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ts val="2999"/>
              </a:lnSpc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lnSpc>
                <a:spcPts val="2999"/>
              </a:lnSpc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lnSpc>
                <a:spcPts val="2999"/>
              </a:lnSpc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lnSpc>
                <a:spcPts val="2999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lnSpc>
                <a:spcPts val="2999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28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ftr" idx="29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sldNum" idx="30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E6E11-A091-4A03-81E1-B4724C274B46}" type="slidenum">
              <a: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2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463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464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5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466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7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ts val="2999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ts val="2999"/>
              </a:lnSpc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ts val="2999"/>
              </a:lnSpc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lnSpc>
                <a:spcPts val="2999"/>
              </a:lnSpc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lnSpc>
                <a:spcPts val="2999"/>
              </a:lnSpc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lnSpc>
                <a:spcPts val="2999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lnSpc>
                <a:spcPts val="2999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 type="dt" idx="3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 type="ftr" idx="3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 type="sldNum" idx="3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5E9B7-2702-429B-AD91-20F1E266849F}" type="slidenum">
              <a: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0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11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2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3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14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5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ts val="2999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ts val="2999"/>
              </a:lnSpc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ts val="2999"/>
              </a:lnSpc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lnSpc>
                <a:spcPts val="2999"/>
              </a:lnSpc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lnSpc>
                <a:spcPts val="2999"/>
              </a:lnSpc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lnSpc>
                <a:spcPts val="2999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lnSpc>
                <a:spcPts val="2999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 type="dt" idx="3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 type="ftr" idx="3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 type="sldNum" idx="3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BA060-0725-41AF-9B0C-D58DEEABAC42}" type="slidenum">
              <a: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5" name="Oval 7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7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8" name="Oval 8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ts val="2999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ts val="2999"/>
              </a:lnSpc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ts val="2999"/>
              </a:lnSpc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lnSpc>
                <a:spcPts val="2999"/>
              </a:lnSpc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lnSpc>
                <a:spcPts val="2999"/>
              </a:lnSpc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lnSpc>
                <a:spcPts val="2999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lnSpc>
                <a:spcPts val="2999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5281F-EA8D-4774-97AF-0C39F44A4BA3}" type="slidenum">
              <a: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0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0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0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ts val="2999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ts val="2999"/>
              </a:lnSpc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ts val="2999"/>
              </a:lnSpc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lnSpc>
                <a:spcPts val="2999"/>
              </a:lnSpc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lnSpc>
                <a:spcPts val="2999"/>
              </a:lnSpc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lnSpc>
                <a:spcPts val="2999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lnSpc>
                <a:spcPts val="2999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EB896-2C5B-48D8-9AA7-D807A1279ABA}" type="slidenum">
              <a: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6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Rectangle 9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50" name="Oval 7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51" name="Oval 7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53" name="Oval 8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ts val="2999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ts val="2999"/>
              </a:lnSpc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ts val="2999"/>
              </a:lnSpc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lnSpc>
                <a:spcPts val="2999"/>
              </a:lnSpc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lnSpc>
                <a:spcPts val="2999"/>
              </a:lnSpc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lnSpc>
                <a:spcPts val="2999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lnSpc>
                <a:spcPts val="2999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11C49-3533-4EAA-9FF2-05DEEE42E216}" type="slidenum">
              <a: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ie 8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Oval 9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97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98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200" name="Rectangle 11"/>
          <p:cNvSpPr/>
          <p:nvPr/>
        </p:nvSpPr>
        <p:spPr>
          <a:xfrm>
            <a:off x="1033560" y="0"/>
            <a:ext cx="81309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ts val="2999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ts val="2999"/>
              </a:lnSpc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ts val="2999"/>
              </a:lnSpc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lnSpc>
                <a:spcPts val="2999"/>
              </a:lnSpc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lnSpc>
                <a:spcPts val="2999"/>
              </a:lnSpc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lnSpc>
                <a:spcPts val="2999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lnSpc>
                <a:spcPts val="2999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035B2-E417-4A4A-910D-8FDD2126CD7B}" type="slidenum">
              <a: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ts val="2999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ts val="2999"/>
              </a:lnSpc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ts val="2999"/>
              </a:lnSpc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lnSpc>
                <a:spcPts val="2999"/>
              </a:lnSpc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lnSpc>
                <a:spcPts val="2999"/>
              </a:lnSpc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lnSpc>
                <a:spcPts val="2999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lnSpc>
                <a:spcPts val="2999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DE059-C204-467A-BB5E-5378F029B559}" type="slidenum">
              <a: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85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286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288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ts val="2999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ts val="2999"/>
              </a:lnSpc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ts val="2999"/>
              </a:lnSpc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lnSpc>
                <a:spcPts val="2999"/>
              </a:lnSpc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lnSpc>
                <a:spcPts val="2999"/>
              </a:lnSpc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lnSpc>
                <a:spcPts val="2999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lnSpc>
                <a:spcPts val="2999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06A3A-C207-4F0B-A461-4AF5F4C5D0A6}" type="slidenum">
              <a: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4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Rectangle 5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ts val="2999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ts val="2999"/>
              </a:lnSpc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ts val="2999"/>
              </a:lnSpc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lnSpc>
                <a:spcPts val="2999"/>
              </a:lnSpc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lnSpc>
                <a:spcPts val="2999"/>
              </a:lnSpc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lnSpc>
                <a:spcPts val="2999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lnSpc>
                <a:spcPts val="2999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dt" idx="2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 type="ftr" idx="2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 type="sldNum" idx="2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90738-BF06-4F22-80BD-4B80A41A3363}" type="slidenum">
              <a: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ts val="2999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ts val="2999"/>
              </a:lnSpc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ts val="2999"/>
              </a:lnSpc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lnSpc>
                <a:spcPts val="2999"/>
              </a:lnSpc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lnSpc>
                <a:spcPts val="2999"/>
              </a:lnSpc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lnSpc>
                <a:spcPts val="2999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lnSpc>
                <a:spcPts val="2999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dt" idx="25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 type="ftr" idx="26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 type="sldNum" idx="27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A9B42-E17E-42EC-AC20-6F5A7FAD76AF}" type="slidenum">
              <a: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434960" y="436320"/>
            <a:ext cx="7407360" cy="14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72314"/>
                </a:solidFill>
                <a:latin typeface="Gill Sans MT"/>
                <a:ea typeface="华文中宋"/>
              </a:rPr>
              <a:t>面向对象技术</a:t>
            </a:r>
            <a:r>
              <a:rPr b="0" lang="en-US" sz="4400" spc="-1" strike="noStrike">
                <a:solidFill>
                  <a:srgbClr val="572314"/>
                </a:solidFill>
                <a:latin typeface="Gill Sans MT"/>
                <a:ea typeface="华文中宋"/>
              </a:rPr>
              <a:t>C++</a:t>
            </a:r>
            <a:r>
              <a:rPr b="0" lang="zh-CN" sz="4400" spc="-1" strike="noStrike">
                <a:solidFill>
                  <a:srgbClr val="572314"/>
                </a:solidFill>
                <a:latin typeface="Gill Sans MT"/>
                <a:ea typeface="华文中宋"/>
              </a:rPr>
              <a:t>考前串讲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subTitle"/>
          </p:nvPr>
        </p:nvSpPr>
        <p:spPr>
          <a:xfrm>
            <a:off x="1431720" y="412380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73080" indent="0">
              <a:lnSpc>
                <a:spcPts val="29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320e04"/>
                </a:solidFill>
                <a:latin typeface="Gill Sans MT"/>
                <a:ea typeface="华文中宋"/>
              </a:rPr>
              <a:t>梁野 副教授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73080" indent="0">
              <a:lnSpc>
                <a:spcPts val="29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73080" indent="0">
              <a:lnSpc>
                <a:spcPts val="29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20e04"/>
                </a:solidFill>
                <a:latin typeface="Gill Sans MT"/>
                <a:ea typeface="华文中宋"/>
              </a:rPr>
              <a:t>2018</a:t>
            </a:r>
            <a:r>
              <a:rPr b="0" lang="zh-CN" sz="2600" spc="-1" strike="noStrike">
                <a:solidFill>
                  <a:srgbClr val="320e04"/>
                </a:solidFill>
                <a:latin typeface="Gill Sans MT"/>
                <a:ea typeface="华文中宋"/>
              </a:rPr>
              <a:t>年</a:t>
            </a:r>
            <a:r>
              <a:rPr b="0" lang="en-US" sz="2600" spc="-1" strike="noStrike">
                <a:solidFill>
                  <a:srgbClr val="320e04"/>
                </a:solidFill>
                <a:latin typeface="Gill Sans MT"/>
                <a:ea typeface="华文中宋"/>
              </a:rPr>
              <a:t>12</a:t>
            </a:r>
            <a:r>
              <a:rPr b="0" lang="zh-CN" sz="2600" spc="-1" strike="noStrike">
                <a:solidFill>
                  <a:srgbClr val="320e04"/>
                </a:solidFill>
                <a:latin typeface="Gill Sans MT"/>
                <a:ea typeface="华文中宋"/>
              </a:rPr>
              <a:t>月</a:t>
            </a:r>
            <a:r>
              <a:rPr b="0" lang="en-US" sz="2600" spc="-1" strike="noStrike">
                <a:solidFill>
                  <a:srgbClr val="320e04"/>
                </a:solidFill>
                <a:latin typeface="Gill Sans MT"/>
                <a:ea typeface="华文中宋"/>
              </a:rPr>
              <a:t>06</a:t>
            </a:r>
            <a:r>
              <a:rPr b="0" lang="zh-CN" sz="2600" spc="-1" strike="noStrike">
                <a:solidFill>
                  <a:srgbClr val="320e04"/>
                </a:solidFill>
                <a:latin typeface="Gill Sans MT"/>
                <a:ea typeface="华文中宋"/>
              </a:rPr>
              <a:t>日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72314"/>
                </a:solidFill>
                <a:latin typeface="Gill Sans MT"/>
                <a:ea typeface="华文中宋"/>
              </a:rPr>
              <a:t>第四章 运算符重载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00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7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重载双目运算符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8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数组类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rray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9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类型之间的转换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10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字符串类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tr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11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重载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++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和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运算符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++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和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前缀和后缀两种重载方式的不同方法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12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日期类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at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72314"/>
                </a:solidFill>
                <a:latin typeface="Gill Sans MT"/>
                <a:ea typeface="华文中宋"/>
              </a:rPr>
              <a:t>第五章 继承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0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.1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继承的基本概念：意义、基类和派生类的概念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.2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基类和派生类：类的层次结构、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ubli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继承方式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.3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受保护的成员：：类的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rotecte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成员对派生类的可访问性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.4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把基类指针强制转换为派生类指针：两者间类型转换关系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.5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使用成员函数：基类成员对派生类的可访问性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.6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在派生类中重定义基类成员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72314"/>
                </a:solidFill>
                <a:latin typeface="Gill Sans MT"/>
                <a:ea typeface="华文中宋"/>
              </a:rPr>
              <a:t>第五章 继承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00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宋体"/>
                <a:ea typeface="宋体"/>
              </a:rPr>
              <a:t>5.7 </a:t>
            </a:r>
            <a:r>
              <a:rPr b="0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公有的、受保护的和私有的基类：在三种不同继承方式下基类成员对于派生类的可访问性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宋体"/>
                <a:ea typeface="宋体"/>
              </a:rPr>
              <a:t>5.8 </a:t>
            </a:r>
            <a:r>
              <a:rPr b="0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直接基类和间接基类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宋体"/>
                <a:ea typeface="宋体"/>
              </a:rPr>
              <a:t>5.9 </a:t>
            </a:r>
            <a:r>
              <a:rPr b="0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在派生类中使用构造函数和析构函数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宋体"/>
                <a:ea typeface="宋体"/>
              </a:rPr>
              <a:t>5.10 </a:t>
            </a:r>
            <a:r>
              <a:rPr b="0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把派生类对象隐式转换为基类对象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宋体"/>
                <a:ea typeface="宋体"/>
              </a:rPr>
              <a:t>5.11 </a:t>
            </a:r>
            <a:r>
              <a:rPr b="0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继承在软件工程中的意义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宋体"/>
                <a:ea typeface="宋体"/>
              </a:rPr>
              <a:t>5.12 </a:t>
            </a:r>
            <a:r>
              <a:rPr b="0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复合和继承的比较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宋体"/>
                <a:ea typeface="宋体"/>
              </a:rPr>
              <a:t>5.13 </a:t>
            </a:r>
            <a:r>
              <a:rPr b="0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对象的“使用”关系和“知道”关系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宋体"/>
                <a:ea typeface="宋体"/>
              </a:rPr>
              <a:t>5.14 </a:t>
            </a:r>
            <a:r>
              <a:rPr b="0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类</a:t>
            </a:r>
            <a:r>
              <a:rPr b="0" lang="en-US" sz="2200" spc="-1" strike="noStrike">
                <a:solidFill>
                  <a:srgbClr val="000000"/>
                </a:solidFill>
                <a:latin typeface="宋体"/>
                <a:ea typeface="宋体"/>
              </a:rPr>
              <a:t>Point</a:t>
            </a:r>
            <a:r>
              <a:rPr b="0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2200" spc="-1" strike="noStrike">
                <a:solidFill>
                  <a:srgbClr val="000000"/>
                </a:solidFill>
                <a:latin typeface="宋体"/>
                <a:ea typeface="宋体"/>
              </a:rPr>
              <a:t>Circle</a:t>
            </a:r>
            <a:r>
              <a:rPr b="0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和</a:t>
            </a:r>
            <a:r>
              <a:rPr b="0" lang="en-US" sz="2200" spc="-1" strike="noStrike">
                <a:solidFill>
                  <a:srgbClr val="000000"/>
                </a:solidFill>
                <a:latin typeface="宋体"/>
                <a:ea typeface="宋体"/>
              </a:rPr>
              <a:t>Cylinder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72314"/>
                </a:solidFill>
                <a:latin typeface="Gill Sans MT"/>
                <a:ea typeface="华文中宋"/>
              </a:rPr>
              <a:t>第六章 虚函数和多态性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00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.1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虚函数和多态性的基本概念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.2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类型域和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switch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语句：使用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switch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语句处理对象类型域所产生的问题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.3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虚函数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.4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抽象基类和具体类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.5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多态性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.6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实例研究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.7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新类和动态联编：在程序中增加新类时多态性的工作原理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.8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虚析构函数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72314"/>
                </a:solidFill>
                <a:latin typeface="Gill Sans MT"/>
                <a:ea typeface="华文中宋"/>
              </a:rPr>
              <a:t>复习题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0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下列有关运算符函数的描述中，错误的是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       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运算符函数的名称总是以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operator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为前缀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运算符函数的参数可以是对象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运算符函数只能定义为类的成员函数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在表达式中使用重载的运算符相当于调用运算符重载函数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72314"/>
                </a:solidFill>
                <a:latin typeface="Gill Sans MT"/>
                <a:ea typeface="华文中宋"/>
              </a:rPr>
              <a:t>复习题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0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 while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和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o-whil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循环的主要区别是（ ）。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o-whil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循环体至少无条件执行一次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whil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循环控制条件比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o-whil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循环控制条件更严格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o-whil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允许从外部转到循环体内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o-while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循环体不能是复合语句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72314"/>
                </a:solidFill>
                <a:latin typeface="Gill Sans MT"/>
                <a:ea typeface="华文中宋"/>
              </a:rPr>
              <a:t>复习题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0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下列虚基类的声明中正确的是（ ）。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lass virtual B: public 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lass B: virtual public 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lass B: public A virtua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virtual class B: public 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72314"/>
                </a:solidFill>
                <a:latin typeface="Gill Sans MT"/>
                <a:ea typeface="华文中宋"/>
              </a:rPr>
              <a:t>复习题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0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.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若一个类的成员函数前用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stati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关键字修饰，则该成员函数（ ）。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可以被声明为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onst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没有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this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指针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可以访问该类的所有成员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只能用对象名来调用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72314"/>
                </a:solidFill>
                <a:latin typeface="Gill Sans MT"/>
                <a:ea typeface="华文中宋"/>
              </a:rPr>
              <a:t>复习题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0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.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下面叙述不正确的是（ ）。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基类的保护成员在派生类中仍然是保护的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基类的保护成员在公有派生类中仍然是保护的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基类的保护成员在私有派生类中仍然是私有的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基类的公有成员在公有派生类中仍然是公有的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72314"/>
                </a:solidFill>
                <a:latin typeface="Gill Sans MT"/>
                <a:ea typeface="华文中宋"/>
              </a:rPr>
              <a:t>复习题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0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.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如果一个函数无返回值，定义时它的函数类型应是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 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任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void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无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72314"/>
                </a:solidFill>
                <a:latin typeface="Gill Sans MT"/>
                <a:ea typeface="华文中宋"/>
              </a:rPr>
              <a:t>考试形式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考试题型：选择、判断、问答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标要求：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5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掌握基本概念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5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理解程序片段的功能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5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推演程序运行的结果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5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编写简单的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++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程序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72314"/>
                </a:solidFill>
                <a:latin typeface="Gill Sans MT"/>
                <a:ea typeface="华文中宋"/>
              </a:rPr>
              <a:t>复习题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0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.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用来说明类中私有成员的关键字是（ ）。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ublic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rivat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rotected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frien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72314"/>
                </a:solidFill>
                <a:latin typeface="Gill Sans MT"/>
                <a:ea typeface="华文中宋"/>
              </a:rPr>
              <a:t>复习题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0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8.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类的析构函数是在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 )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调用的。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类创建时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创建对象时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删除对象时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不自动调用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72314"/>
                </a:solidFill>
                <a:latin typeface="Gill Sans MT"/>
                <a:ea typeface="华文中宋"/>
              </a:rPr>
              <a:t>复习题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0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9.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下列数组定义中错误的是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 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har s[5]="ABCDD"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har s[6]="ABCDD"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har s[7]="ABCDD"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har s[]="ABCDD"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72314"/>
                </a:solidFill>
                <a:latin typeface="Gill Sans MT"/>
                <a:ea typeface="华文中宋"/>
              </a:rPr>
              <a:t>复习题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0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.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下列各类函数中，（ ）不是类的成员函数。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构造函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析构函数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友元函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拷贝初始化构造函数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72314"/>
                </a:solidFill>
                <a:latin typeface="Gill Sans MT"/>
                <a:ea typeface="华文中宋"/>
              </a:rPr>
              <a:t>复习题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0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1.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下面关于类的对象性质的描述，正确的是（ ）。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对象之间不可以相互赋值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不可以说明指向对象的指针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对象不能用作多维数组元素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一个对象能用作另一个对象的成员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72314"/>
                </a:solidFill>
                <a:latin typeface="Gill Sans MT"/>
                <a:ea typeface="华文中宋"/>
              </a:rPr>
              <a:t>复习题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0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2.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下列关键字中，（ ）不是类中定义数据成员使用的关键字。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static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ons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exter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oubl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72314"/>
                </a:solidFill>
                <a:latin typeface="Gill Sans MT"/>
                <a:ea typeface="华文中宋"/>
              </a:rPr>
              <a:t>复习题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0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3.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下列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 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++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语言的有效标识符。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_No1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N0.1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2345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i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72314"/>
                </a:solidFill>
                <a:latin typeface="Gill Sans MT"/>
                <a:ea typeface="华文中宋"/>
              </a:rPr>
              <a:t>复习题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0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4.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若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一个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bool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型变量，则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X &amp;&amp; 5&lt;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值（ ）。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为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为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false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与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值相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与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值相反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72314"/>
                </a:solidFill>
                <a:latin typeface="Gill Sans MT"/>
                <a:ea typeface="华文中宋"/>
              </a:rPr>
              <a:t>复习题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0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5.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可以用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.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形式访问派生类对象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基类成员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其中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  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私有继承的公有成员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公有继承的保护成员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公有继承的私有成员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公有继承的公有成员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72314"/>
                </a:solidFill>
                <a:latin typeface="Gill Sans MT"/>
                <a:ea typeface="华文中宋"/>
              </a:rPr>
              <a:t>复习题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0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6.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下列语句中错误的是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  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onst int a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onst int a = 1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onst int *point = 0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onst int *point = new int(5)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72314"/>
                </a:solidFill>
                <a:latin typeface="Gill Sans MT"/>
                <a:ea typeface="华文中宋"/>
              </a:rPr>
              <a:t>第一章 </a:t>
            </a:r>
            <a:r>
              <a:rPr b="0" lang="en-US" sz="3600" spc="-1" strike="noStrike">
                <a:solidFill>
                  <a:srgbClr val="572314"/>
                </a:solidFill>
                <a:latin typeface="Gill Sans MT"/>
                <a:ea typeface="华文中宋"/>
              </a:rPr>
              <a:t>C++</a:t>
            </a:r>
            <a:r>
              <a:rPr b="0" lang="zh-CN" sz="3600" spc="-1" strike="noStrike">
                <a:solidFill>
                  <a:srgbClr val="572314"/>
                </a:solidFill>
                <a:latin typeface="Gill Sans MT"/>
                <a:ea typeface="华文中宋"/>
              </a:rPr>
              <a:t>基础知识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00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1 C++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语言与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语言的关系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2 C++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单行注解：两种注解方式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3 C++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输入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输出流：熟练应用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4 C++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中的声明：声明是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++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语言中的一种语句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5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在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++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中建立新的数据类型：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struct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enu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新的数据类型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6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函数原型和类型检查：函数原型说明的必要性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7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内联函数的概念、优点以及定义方法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72314"/>
                </a:solidFill>
                <a:latin typeface="Gill Sans MT"/>
                <a:ea typeface="华文中宋"/>
              </a:rPr>
              <a:t>复习题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0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7.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假定一个类的构造函数为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F(int aa,int bb) {a=aa++; b=a*bb++;}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则执行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FX(5,5)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语句后，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X.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和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X.b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值分别为（ ）。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和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和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和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5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和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72314"/>
                </a:solidFill>
                <a:latin typeface="Gill Sans MT"/>
                <a:ea typeface="华文中宋"/>
              </a:rPr>
              <a:t>复习题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0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8.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在一个类，可以对一个操作符进行（ ）种重载。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种以下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种以下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多种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72314"/>
                </a:solidFill>
                <a:latin typeface="Gill Sans MT"/>
                <a:ea typeface="华文中宋"/>
              </a:rPr>
              <a:t>复习题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0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9.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若已经声明了函数原型“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void fun(int 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ouble b=0.0)”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则下列重载函数声明中正确的是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 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void fun(int a=8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ouble b=0.1)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int fun(int 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ouble B).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void fun(double 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int B).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bool fun(int 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ouble b=0.0)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72314"/>
                </a:solidFill>
                <a:latin typeface="Gill Sans MT"/>
                <a:ea typeface="华文中宋"/>
              </a:rPr>
              <a:t>复习题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0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.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以下定义数组中错误的是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 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int a[10];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int a[2][20]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int a[20][];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int a[]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72314"/>
                </a:solidFill>
                <a:latin typeface="Gill Sans MT"/>
                <a:ea typeface="华文中宋"/>
              </a:rPr>
              <a:t>复习题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0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3.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下列对派生类的描述中，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 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错误的。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一个派生类不可以作为另一个派生类的基类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派生类至少应有一个基类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基类中成员的访问权限被派生类继承后可以被改变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派生类的成员除了自己定义的成员外，还包含了它的基类成员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72314"/>
                </a:solidFill>
                <a:latin typeface="Gill Sans MT"/>
                <a:ea typeface="华文中宋"/>
              </a:rPr>
              <a:t>复习题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76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4.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下面函数模板定义中不正确的是（ ）。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76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templat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76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FF(F y){ 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76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eturn F+y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76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76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template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76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FF(F y){ 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76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eturn y+y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76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4" name="矩形 3"/>
          <p:cNvSpPr/>
          <p:nvPr/>
        </p:nvSpPr>
        <p:spPr>
          <a:xfrm>
            <a:off x="4788000" y="2016000"/>
            <a:ext cx="2592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10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template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TF(T y){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eturn y*y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templat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TF(T y){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eturn y&gt;1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72314"/>
                </a:solidFill>
                <a:latin typeface="Gill Sans MT"/>
                <a:ea typeface="华文中宋"/>
              </a:rPr>
              <a:t>复习题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0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5.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下列关于对象数组的描述中错误的是（ ）。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对象数组的下标是从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开始的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对象数组的数组名不是一个常量指针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对象数组的每个元素是同一个类的对象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对象数组可以赋初值，也可以定义后赋值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 txBox="1"/>
          <p:nvPr/>
        </p:nvSpPr>
        <p:spPr>
          <a:xfrm>
            <a:off x="1403280" y="189000"/>
            <a:ext cx="7531200" cy="605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读程序，写出程序运行的结果，并回答问题。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#include&lt;iostream.h&gt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lass Sampl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ublic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Sample()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Sample(int)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~Sample()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void display()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rotected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int x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}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"/>
          <p:cNvSpPr txBox="1"/>
          <p:nvPr/>
        </p:nvSpPr>
        <p:spPr>
          <a:xfrm>
            <a:off x="1403280" y="189000"/>
            <a:ext cx="7531200" cy="605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78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Sample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78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78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x=0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78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out&lt;&lt;"constructing normally\n"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78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78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Sample::Sample(int m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78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78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x=m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78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out&lt;&lt;"constructing with a number:" &lt;&lt;x&lt;&lt;endl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78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78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void Sample::display(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78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78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out&lt;&lt;"display a number:"&lt;&lt;x&lt;&lt;endl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78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"/>
          <p:cNvSpPr txBox="1"/>
          <p:nvPr/>
        </p:nvSpPr>
        <p:spPr>
          <a:xfrm>
            <a:off x="1403280" y="189000"/>
            <a:ext cx="7531200" cy="605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78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Sample::~Sample(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78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78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out&lt;&lt;"destructing\n"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78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78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void main(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78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78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Sample obj1; //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语句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78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Sample obj2(20); //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语句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78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obj1.display(); //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调用成员函数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78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obj2.display()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78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}  //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程序结束前调用析构函数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78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 请写出类中一共有几个构造函数。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78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 语句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运行会调用哪个函数，请写出函数名字。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78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 程序运行的结果是什么？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72314"/>
                </a:solidFill>
                <a:latin typeface="Gill Sans MT"/>
                <a:ea typeface="华文中宋"/>
              </a:rPr>
              <a:t>第一章 </a:t>
            </a:r>
            <a:r>
              <a:rPr b="0" lang="en-US" sz="3600" spc="-1" strike="noStrike">
                <a:solidFill>
                  <a:srgbClr val="572314"/>
                </a:solidFill>
                <a:latin typeface="Gill Sans MT"/>
                <a:ea typeface="华文中宋"/>
              </a:rPr>
              <a:t>C++</a:t>
            </a:r>
            <a:r>
              <a:rPr b="0" lang="zh-CN" sz="3600" spc="-1" strike="noStrike">
                <a:solidFill>
                  <a:srgbClr val="572314"/>
                </a:solidFill>
                <a:latin typeface="Gill Sans MT"/>
                <a:ea typeface="华文中宋"/>
              </a:rPr>
              <a:t>基础知识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00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宋体"/>
                <a:ea typeface="宋体"/>
              </a:rPr>
              <a:t>1.8 </a:t>
            </a:r>
            <a:r>
              <a:rPr b="0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引用参数：传值和传引用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宋体"/>
                <a:ea typeface="宋体"/>
              </a:rPr>
              <a:t>1.9 const</a:t>
            </a:r>
            <a:r>
              <a:rPr b="0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限定符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宋体"/>
                <a:ea typeface="宋体"/>
              </a:rPr>
              <a:t>1.10 </a:t>
            </a:r>
            <a:r>
              <a:rPr b="0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动态内存分配：</a:t>
            </a:r>
            <a:r>
              <a:rPr b="0" lang="en-US" sz="2200" spc="-1" strike="noStrike">
                <a:solidFill>
                  <a:srgbClr val="000000"/>
                </a:solidFill>
                <a:latin typeface="宋体"/>
                <a:ea typeface="宋体"/>
              </a:rPr>
              <a:t>new</a:t>
            </a:r>
            <a:r>
              <a:rPr b="0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和</a:t>
            </a:r>
            <a:r>
              <a:rPr b="0" lang="en-US" sz="2200" spc="-1" strike="noStrike">
                <a:solidFill>
                  <a:srgbClr val="000000"/>
                </a:solidFill>
                <a:latin typeface="宋体"/>
                <a:ea typeface="宋体"/>
              </a:rPr>
              <a:t>delete</a:t>
            </a:r>
            <a:r>
              <a:rPr b="0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运算符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宋体"/>
                <a:ea typeface="宋体"/>
              </a:rPr>
              <a:t>1.11 </a:t>
            </a:r>
            <a:r>
              <a:rPr b="0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默认参数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宋体"/>
                <a:ea typeface="宋体"/>
              </a:rPr>
              <a:t>1.12 </a:t>
            </a:r>
            <a:r>
              <a:rPr b="0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单目作用域运算符：：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宋体"/>
                <a:ea typeface="宋体"/>
              </a:rPr>
              <a:t>1.13 </a:t>
            </a:r>
            <a:r>
              <a:rPr b="0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函数重载的意义、使用方法，函数调用和函数定义之间的对应原则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宋体"/>
                <a:ea typeface="宋体"/>
              </a:rPr>
              <a:t>1.14 </a:t>
            </a:r>
            <a:r>
              <a:rPr b="0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连接说明的概念，达到识记程度。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宋体"/>
                <a:ea typeface="宋体"/>
              </a:rPr>
              <a:t>1.15 </a:t>
            </a:r>
            <a:r>
              <a:rPr b="0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函数模板的意义、定义与使用方法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"/>
          <p:cNvSpPr txBox="1"/>
          <p:nvPr/>
        </p:nvSpPr>
        <p:spPr>
          <a:xfrm>
            <a:off x="1403280" y="189000"/>
            <a:ext cx="7531200" cy="605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onstructing normall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onstructing with a number:20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isplay a number:0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isplay a number:20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estruct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estruct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"/>
          <p:cNvSpPr txBox="1"/>
          <p:nvPr/>
        </p:nvSpPr>
        <p:spPr>
          <a:xfrm>
            <a:off x="1403280" y="189000"/>
            <a:ext cx="7531200" cy="605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读程序，写出程序运行的结果，并回答问题。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#include &lt;iostream.h&gt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lass 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ublic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(int r1,int r2) {R1=r1;R2=r2;}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~R(){cout&lt;&lt;"destructing\n";}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void print()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void print() const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rivate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int R1,R2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}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"/>
          <p:cNvSpPr txBox="1"/>
          <p:nvPr/>
        </p:nvSpPr>
        <p:spPr>
          <a:xfrm>
            <a:off x="1403280" y="189000"/>
            <a:ext cx="7531200" cy="605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78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void R::print(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78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78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out&lt;&lt;R1&lt;&lt;":"&lt;&lt;R2&lt;&lt;endl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78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78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void R::print() cons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78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78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out&lt;&lt;R1&lt;&lt;";"&lt;&lt;R2&lt;&lt;endl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78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78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void main(){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78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 a(5,4)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78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.print()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78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onst R b(20,52)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78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b.print()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78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"/>
          <p:cNvSpPr txBox="1"/>
          <p:nvPr/>
        </p:nvSpPr>
        <p:spPr>
          <a:xfrm>
            <a:off x="1403280" y="189000"/>
            <a:ext cx="7531200" cy="605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 程序中有两个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rint(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函数，其中一个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onst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修饰，请问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onst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作用是什么？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 写出构造函数和析构函数的函数名。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 程序运行的结果是什么？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"/>
          <p:cNvSpPr txBox="1"/>
          <p:nvPr/>
        </p:nvSpPr>
        <p:spPr>
          <a:xfrm>
            <a:off x="1403280" y="189000"/>
            <a:ext cx="7531200" cy="605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用引用类型变量作为函数参数，编写对三个变量进行按升序排序的函数，在主函数中输入三个变量的值，输出排序后三个变量的值。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"/>
          <p:cNvSpPr txBox="1"/>
          <p:nvPr/>
        </p:nvSpPr>
        <p:spPr>
          <a:xfrm>
            <a:off x="1403280" y="189000"/>
            <a:ext cx="7531200" cy="605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#include &lt;iostream.h&gt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void sort(int &amp;a, int &amp;b, int &amp;c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{    int tem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if(a &gt; b) { temp=b; b=a; a=temp;}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//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如果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比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大，则交换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if(b &gt; c) {temp=b; b=c; c=temp;} 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//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如果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比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大，则交换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if(a &gt; b) {temp=b;b=a;a=temp}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//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有可能第一个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if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没有执行，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//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而执行第二个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if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后，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比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大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"/>
          <p:cNvSpPr txBox="1"/>
          <p:nvPr/>
        </p:nvSpPr>
        <p:spPr>
          <a:xfrm>
            <a:off x="1403280" y="189000"/>
            <a:ext cx="7531200" cy="605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void main(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{   int a, b, c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out&lt;&lt;"Please input a, b, c: "&lt;&lt;endl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in &gt;&gt; a &gt;&gt; b &gt;&gt; c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sort(a, b, c)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out &lt;&lt; a &lt;&lt; "," &lt;&lt; b &lt;&lt; "," &lt;&lt; c &lt;&lt;endl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"/>
          <p:cNvSpPr txBox="1"/>
          <p:nvPr/>
        </p:nvSpPr>
        <p:spPr>
          <a:xfrm>
            <a:off x="1434960" y="692280"/>
            <a:ext cx="7499520" cy="555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00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8100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宋体"/>
                <a:ea typeface="宋体"/>
              </a:rPr>
              <a:t>谢谢！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  <a:p>
            <a:pPr marL="8100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8100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2018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年</a:t>
            </a:r>
            <a:r>
              <a:rPr b="0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月</a:t>
            </a:r>
            <a:r>
              <a:rPr b="0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06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日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72314"/>
                </a:solidFill>
                <a:latin typeface="Gill Sans MT"/>
                <a:ea typeface="华文中宋"/>
              </a:rPr>
              <a:t>第二章 类和数据抽象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00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宋体"/>
                <a:ea typeface="宋体"/>
              </a:rPr>
              <a:t>2.1 </a:t>
            </a:r>
            <a:r>
              <a:rPr b="0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面向对象的基本概念和面向对象程序设计的基本思路，使用数据抽象的优点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宋体"/>
                <a:ea typeface="宋体"/>
              </a:rPr>
              <a:t>2.2 </a:t>
            </a:r>
            <a:r>
              <a:rPr b="0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结构的定义：</a:t>
            </a:r>
            <a:r>
              <a:rPr b="0" lang="en-US" sz="22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0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语言中</a:t>
            </a:r>
            <a:r>
              <a:rPr b="0" lang="en-US" sz="2200" spc="-1" strike="noStrike">
                <a:solidFill>
                  <a:srgbClr val="000000"/>
                </a:solidFill>
                <a:latin typeface="宋体"/>
                <a:ea typeface="宋体"/>
              </a:rPr>
              <a:t>struct</a:t>
            </a:r>
            <a:r>
              <a:rPr b="0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的定义方法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宋体"/>
                <a:ea typeface="宋体"/>
              </a:rPr>
              <a:t>2.3 </a:t>
            </a:r>
            <a:r>
              <a:rPr b="0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访问结构的成员：</a:t>
            </a:r>
            <a:r>
              <a:rPr b="0" lang="en-US" sz="22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0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语言中</a:t>
            </a:r>
            <a:r>
              <a:rPr b="0" lang="en-US" sz="2200" spc="-1" strike="noStrike">
                <a:solidFill>
                  <a:srgbClr val="000000"/>
                </a:solidFill>
                <a:latin typeface="宋体"/>
                <a:ea typeface="宋体"/>
              </a:rPr>
              <a:t>struct</a:t>
            </a:r>
            <a:r>
              <a:rPr b="0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的成员访问方法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宋体"/>
                <a:ea typeface="宋体"/>
              </a:rPr>
              <a:t>2.4 </a:t>
            </a:r>
            <a:r>
              <a:rPr b="0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用结构实现用户定义的类型：</a:t>
            </a:r>
            <a:r>
              <a:rPr b="0" lang="en-US" sz="22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0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语言中</a:t>
            </a:r>
            <a:r>
              <a:rPr b="0" lang="en-US" sz="2200" spc="-1" strike="noStrike">
                <a:solidFill>
                  <a:srgbClr val="000000"/>
                </a:solidFill>
                <a:latin typeface="宋体"/>
                <a:ea typeface="宋体"/>
              </a:rPr>
              <a:t>struct</a:t>
            </a:r>
            <a:r>
              <a:rPr b="0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的方法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宋体"/>
                <a:ea typeface="宋体"/>
              </a:rPr>
              <a:t>2.5 </a:t>
            </a:r>
            <a:r>
              <a:rPr b="0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用类实现抽象数据类型：与</a:t>
            </a:r>
            <a:r>
              <a:rPr b="0" lang="en-US" sz="2200" spc="-1" strike="noStrike">
                <a:solidFill>
                  <a:srgbClr val="000000"/>
                </a:solidFill>
                <a:latin typeface="宋体"/>
                <a:ea typeface="宋体"/>
              </a:rPr>
              <a:t>struct</a:t>
            </a:r>
            <a:r>
              <a:rPr b="0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相比具有的优点以及方法上的区别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宋体"/>
                <a:ea typeface="宋体"/>
              </a:rPr>
              <a:t>2.6 </a:t>
            </a:r>
            <a:r>
              <a:rPr b="0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类的作用域和访问类的数据成员和成员函数的方法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72314"/>
                </a:solidFill>
                <a:latin typeface="Gill Sans MT"/>
                <a:ea typeface="华文中宋"/>
              </a:rPr>
              <a:t>第二章 类和数据抽象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00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宋体"/>
                <a:ea typeface="宋体"/>
              </a:rPr>
              <a:t>2.7 </a:t>
            </a:r>
            <a:r>
              <a:rPr b="0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接口和实现的分离：类的接口和实现的分离的意义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宋体"/>
                <a:ea typeface="宋体"/>
              </a:rPr>
              <a:t>2.8 </a:t>
            </a:r>
            <a:r>
              <a:rPr b="0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控制对成员的访问：类成员访问方式</a:t>
            </a:r>
            <a:r>
              <a:rPr b="0" lang="en-US" sz="2200" spc="-1" strike="noStrike">
                <a:solidFill>
                  <a:srgbClr val="000000"/>
                </a:solidFill>
                <a:latin typeface="宋体"/>
                <a:ea typeface="宋体"/>
              </a:rPr>
              <a:t>public</a:t>
            </a:r>
            <a:r>
              <a:rPr b="0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和</a:t>
            </a:r>
            <a:r>
              <a:rPr b="0" lang="en-US" sz="2200" spc="-1" strike="noStrike">
                <a:solidFill>
                  <a:srgbClr val="000000"/>
                </a:solidFill>
                <a:latin typeface="宋体"/>
                <a:ea typeface="宋体"/>
              </a:rPr>
              <a:t>privat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宋体"/>
                <a:ea typeface="宋体"/>
              </a:rPr>
              <a:t>2.9 </a:t>
            </a:r>
            <a:r>
              <a:rPr b="0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访问函数和工具函数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宋体"/>
                <a:ea typeface="宋体"/>
              </a:rPr>
              <a:t>2.10 </a:t>
            </a:r>
            <a:r>
              <a:rPr b="0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初始化类的对象：构造函数的特殊语法与功能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宋体"/>
                <a:ea typeface="宋体"/>
              </a:rPr>
              <a:t>2.11 </a:t>
            </a:r>
            <a:r>
              <a:rPr b="0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在构造函数中使用默认参数：类对象的多种初始化的方式，构造函数的重载以及构造函数使用默认参数的方法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宋体"/>
                <a:ea typeface="宋体"/>
              </a:rPr>
              <a:t>2.12 </a:t>
            </a:r>
            <a:r>
              <a:rPr b="0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析构函数的使用：语法与其定义的一般功能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72314"/>
                </a:solidFill>
                <a:latin typeface="Gill Sans MT"/>
                <a:ea typeface="华文中宋"/>
              </a:rPr>
              <a:t>第二章 类和数据抽象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00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13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调用构造函数和析构函数的时机：不同作用域和生命期的类对象的构造函数和析构函数的调用时机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14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数据成员和成员函数的使用：类的使用方法、数据成员和成员函数的访问方法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15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返回对私有数据成员的引用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16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逐个成员拷贝的默认赋值方式：默认赋值运算符的含义以及可能存在的问题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17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软件的可重用性：如何实现软件可重用的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72314"/>
                </a:solidFill>
                <a:latin typeface="Gill Sans MT"/>
                <a:ea typeface="华文中宋"/>
              </a:rPr>
              <a:t>第三章 类和数据抽象（二）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00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3.1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类的其他性质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3.2 const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对象和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const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成员函数：软件工程最低访问权原则，理解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const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类对象和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const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类成员函数的意义、定义方法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3.3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复合：把类作为其它类的成员：用复合进行软件重用，熟悉复合类的定义方法、构造函数的参数指定方式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3.4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友元函数和友元类的使用方法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3.5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使用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this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指针的意义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3.6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动态内存分配：运算符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new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和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3.7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类的静态成员的作用、使用方法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3.8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数据抽象和信息隐藏的含义和作用、抽象数据类型的描述方法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3.9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包容器类和递取类的含义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72314"/>
                </a:solidFill>
                <a:latin typeface="Gill Sans MT"/>
                <a:ea typeface="华文中宋"/>
              </a:rPr>
              <a:t>第四章 运算符重载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00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1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运算符重载的意义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2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运算符重载的基本知识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3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运算符重载的限制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4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用作类成员的运算符函数和用作友元函数的运算符函数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5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重载流插入和流提取运算符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6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重载单目运算符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20T03:15:20Z</dcterms:created>
  <dc:creator/>
  <dc:description/>
  <dc:language>en-US</dc:language>
  <cp:lastModifiedBy/>
  <dcterms:modified xsi:type="dcterms:W3CDTF">2018-12-07T01:18:29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822959990</vt:lpwstr>
  </property>
</Properties>
</file>