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3BEE-AF47-47A0-B9FB-A6F6B40C03EE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FE61-4332-49A3-A14D-7D66A125DD88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397D-FFEF-4DAE-ABF0-E37DA13CA35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C5A2-7169-4507-A576-3C03A408FCD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提示：在此处添加您的备注文字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85DC-21C9-4729-BEB0-1ADDA5BB7713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C700-AE84-437D-85A0-5C3C3A525BE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FC5A-EABD-4321-9187-896A6650F2B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F018-7519-4B39-948E-CC41DE917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90C6-F859-4895-8F03-28DF8812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C13B0-1F3A-4B67-A2ED-44D873CF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C0352-4BE5-454A-8C5C-13D04B9C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28B01-ECCD-45FD-B61E-7996D305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BA55F-86F4-44BB-8D45-2CBEC95D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A26BD-BF44-4189-AB4D-0E2A87CA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935D2-5BB7-4EC7-B43E-879ED5CB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22CE6-460E-4AD4-88D5-7BEC1150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74FEB-F9DF-4591-82E2-0E8608D49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480AC-4D33-4C55-9A1C-BC2CDA06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3A6D6-EE2B-4FE0-8FC6-585A8C6E3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4D86-3E94-442B-8CD9-4260B762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2BC99-F457-468E-B128-2F328C3A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DB773-5CAD-4D22-A888-2673DDE7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A74BD-0669-4E9D-B385-0AC06DC5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D4B80-9F1A-4596-934D-5B41156C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C69CE-9454-41D0-8A9E-EE39D408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0D2A4-398C-4A3B-AD43-F5C9D91D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8D4762-22FA-4721-87DB-3CE7DA73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019E7-91FA-48D2-A33A-4A7CB815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4BFDE-1837-41A3-A6FA-2FF2023B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382B6-3D75-4653-9961-DEFAD6CE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8823-F2C1-4940-8770-732462FA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A1111E-A506-40BB-ABDD-891068A92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0898C-A344-463E-A5A8-38D8649D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9F4A2-693C-4F4D-87E6-A81995B9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2F43F-60E0-402E-B96F-6B5F1F8F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948AD-BCFA-49E3-A334-2551B064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6B9A5-3C2D-461C-93B8-B10BC17F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7D33C-2394-4837-840B-5C30AB6D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12C6A-B8A0-465B-B966-39DFB7C0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E484A-5F59-4E3D-A704-A6B79424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19EBD-DB97-4DE0-84B5-E3950C1D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23BF-2123-4746-860C-17943EE07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35564-D594-4FB3-B19D-4A864870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66F3B-D90D-44F8-8DFB-E8E158C44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23045-FEF0-4012-8B46-0F00C71D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1B7ABB-53FF-4253-BC74-F491DBA8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2D0B9-8B5C-4C37-945B-43C7341C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B980FF-254B-4FB4-BC4B-09585A52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89879A-1425-4677-8EFF-7B1281DD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18585E-3930-4713-9B92-35D72F46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807532-228F-4E65-9A67-60383C96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11331-D8CB-43C4-BBE2-D65B45AD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D70E-EC0D-4F94-8205-B3A1E3CE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854399-B0FB-40C3-B74A-2F6F2A88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C0586C-1576-45FC-9CF9-6F5E5302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19D88-7093-431C-8FFA-78BE7790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37928D-C35D-44E7-B04C-93B40BAC2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D46D3-7066-4E93-9E2C-67492CCA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2142-1D25-4426-8A7D-074A11AF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5D73-65D5-4B22-9C57-84478393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6AEF-B46D-4302-B351-F7B0F4CD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33F5-DCCD-47C8-A555-9C6761FE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6A38-FAB1-497D-85D9-E4434DDA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7FEE-FC56-4835-AB65-7A18DAC1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3F92-7E74-423D-9554-46D5BE12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EA19-C294-4B89-89B9-65FB5F17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D5EC-6AF7-4814-BB6A-7D5C40D8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CBAB-0361-466A-96CF-9E65DEA58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B583-1AC0-43FB-8AB9-E0A40643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0F6CD-F7F7-4146-9930-463BCE67D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C14FA-A6CC-4CA4-8FAE-D84D8132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F4533-AE08-453E-B238-230B3F9A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8080C-7FE6-41E5-A4FE-E3AB0101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CE3B7-15E6-4886-A6CF-3A8C0F60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7E2D-C3C2-4E5A-B6AA-9A1448A8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290EC-257B-40AB-95C1-4029D8D2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34CAB-E41F-42AB-8F3F-2AB2FA67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8CDE2-0247-4BDC-880B-A90D4655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FA42E-8624-4763-8D4C-3770F5E9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1EC47-C0AB-4C1E-9272-186A7BFE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7DED2-2BF5-4F49-8DE4-65BA45E3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C2D9C-9493-4192-97DD-E6E1B6464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26960-6E1A-4A0B-A6BD-1B0DE0AA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E82AA-988A-402D-A386-921556AE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0B90D-3694-4AC7-9DAC-2A1C289F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01CD-7481-44ED-AB04-9835115A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8DB59-C555-497D-907D-8017FEB5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79567-7B52-47DA-8AA8-B158C000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5600B-CD87-4BF5-AADB-D0C9BD76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AA1E9-2AD9-4660-9769-3F8B2992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74C7F-ED1C-40C8-BA36-5D5BDCF6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A7E70-9BB1-4591-9CCA-4C983FCF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6BDC7-10E5-435C-969D-6A94AAB4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7C861-6831-4B7E-921D-DFE1F7A9B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BCF8C-5D59-4A43-98FD-EB71F98A6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B5E23-E578-4708-A62B-EE62A6B74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EB01-05BB-4347-A552-FB18CADE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BF63A-F181-44A4-862A-B5CBA724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6D254-02DD-42B5-A867-BFD3C4EA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A4030-F28B-4088-BC1B-A44A20B0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167FE-6AAF-4D5A-9AAA-0B7C34C7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EC786-996A-4499-9B80-33131134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D3907-B313-4CF7-A1CA-088B849E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0AE70-2DDB-459D-81AA-DF00A0D8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C70A1-A7AA-4E87-810C-05C7A159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82C35-D399-46EF-AF6D-949D30A2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4CB54-07E2-4B03-9675-24D69560F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16CF-2875-466D-84DE-D3C5F53E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69415-A04E-4289-8C10-9ACA03228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51FDA-44FF-43A6-BFC7-3E558758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D4E83-C084-4735-ADC2-BED54F9B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A6E36-0176-4076-9C47-4322AF54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F78C3-F57A-4DD4-9E2A-F5E1CC7B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152BD-46FD-49C9-A437-04875EDF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BD622-7A06-4C6A-9E3B-7A004B2A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37C33-41BF-424F-9D04-CD2B377F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24915-C6DD-4EC5-B197-80A2EA06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C4690-3A31-48CE-BE89-5703D87C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A3BE-ED2F-4B4B-BA3B-23467900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936D5-F520-4AAB-A66E-CCC44602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7C585-42A3-45F3-A88B-8D74D512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0D52F-0BC6-4921-902C-44D8FCE0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A5A7F-DD22-4F09-A812-7FF1E9FE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01841-AABA-4623-8D59-C3A12F77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083CA-1A88-45C6-87A0-72113D8E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41F61-9239-48FC-A65B-47091AEC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BE14D-6338-4C76-A30D-1C13F6F1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3133D-0255-4D14-AF8C-EC8DD239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91D90-CABD-429A-BCBF-0E37C889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67D1-CB12-4F16-A0CC-CF0D1CA4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C6463-C89D-44D8-920B-457CE880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93CA0-BEE5-4B8F-83A5-793719A3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FCB3E-6F5B-4404-B1BC-22DCD988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A35B7-CE02-4286-A71F-90CAB42C2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FBC25-F49E-456D-8B83-F63181A3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35149-9243-4552-8C26-FA40B78C4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D31A3-E06A-4EF7-8C0C-DBFCB6FF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94641-B995-4435-B188-07084594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916FD-2AC8-4ADC-9937-117DF07E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3E1A1-15DD-4A9D-9CE3-67539D46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F482-5D78-429F-AE3D-D75E109B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A0D14-F6C6-4E3F-BA4C-C2C14DEF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7A42E-CCD6-4DF8-8ABB-00D19B53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7B8D7-3755-477F-84D3-2D5C1D64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EC995-5929-4226-9AC9-EEAC98BB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4490D-3097-485B-9D33-F45CCE8B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5E877-D1E4-48BB-8EA5-32DA8B36E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E6E25-9AC3-478C-8D85-2AB23EBA9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F030EB-10F3-452F-96A3-5C79907B3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E8F31-2DAF-435F-8472-EF1296A1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805A4-8046-4761-AA16-4B958E33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53F6-F432-4815-9F34-59D2C1BCFA61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Rectangle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6" name="Rectangle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18" name="Flowchart: Process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Flowchart: Process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D6F3-3752-4D20-B093-2A20DD23394F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63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4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6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3A65-2472-48BA-B820-06242B1324B4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11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2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14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7B1E-6BE5-4F90-856C-B856CF164775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3AFE-CF61-409F-BD00-081D8BD6AE59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291B-30A4-4380-BF57-42D575281CEC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50" name="Oval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Oval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53" name="Oval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F75D-7997-4F45-814E-81A3754A6DEE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ie 8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Oval 9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7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00" name="Rectangle 11"/>
          <p:cNvSpPr/>
          <p:nvPr/>
        </p:nvSpPr>
        <p:spPr>
          <a:xfrm>
            <a:off x="1033560" y="0"/>
            <a:ext cx="81309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D6FB-A5B6-479E-BAF4-6C7358C126DE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3D5F-73FD-440E-8C2A-61F5FC292193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85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6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88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A7BC-4D2B-4CF0-B720-35EFF935FC87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F71D-AB62-47EA-9E14-EC0D5096E253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A446-E1BC-4DB4-B0C7-8B1B7D37616B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434960" y="43632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72314"/>
                </a:solidFill>
                <a:latin typeface="Gill Sans MT"/>
                <a:ea typeface="华文中宋"/>
              </a:rPr>
              <a:t>计算机引论考前串讲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1431720" y="412380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7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20e04"/>
                </a:solidFill>
                <a:latin typeface="Gill Sans MT"/>
                <a:ea typeface="华文中宋"/>
              </a:rPr>
              <a:t>梁野 副教授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7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7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  <a:ea typeface="华文中宋"/>
              </a:rPr>
              <a:t>2018</a:t>
            </a:r>
            <a:r>
              <a:rPr b="0" lang="zh-CN" sz="2600" spc="-1" strike="noStrike">
                <a:solidFill>
                  <a:srgbClr val="320e04"/>
                </a:solidFill>
                <a:latin typeface="Gill Sans MT"/>
                <a:ea typeface="华文中宋"/>
              </a:rPr>
              <a:t>年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  <a:ea typeface="华文中宋"/>
              </a:rPr>
              <a:t>12</a:t>
            </a:r>
            <a:r>
              <a:rPr b="0" lang="zh-CN" sz="2600" spc="-1" strike="noStrike">
                <a:solidFill>
                  <a:srgbClr val="320e04"/>
                </a:solidFill>
                <a:latin typeface="Gill Sans MT"/>
                <a:ea typeface="华文中宋"/>
              </a:rPr>
              <a:t>月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  <a:ea typeface="华文中宋"/>
              </a:rPr>
              <a:t>11</a:t>
            </a:r>
            <a:r>
              <a:rPr b="0" lang="zh-CN" sz="2600" spc="-1" strike="noStrike">
                <a:solidFill>
                  <a:srgbClr val="320e04"/>
                </a:solidFill>
                <a:latin typeface="Gill Sans MT"/>
                <a:ea typeface="华文中宋"/>
              </a:rPr>
              <a:t>日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练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在微型计算机中，运算器和控制器合称为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　         　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逻辑部件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算术运算部件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微处理器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算术和逻辑部件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练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完整的计算机系统由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(      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组成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运算器、控制器、存储器、输入设备和输出设备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主机和外部设备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硬件系统和软件系统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主机箱、显示器、键盘、鼠标、打印机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二部分：硬件知识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完整的计算机系统由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Gill Sans MT"/>
                <a:ea typeface="华文中宋"/>
              </a:rPr>
              <a:t>运算器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、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Gill Sans MT"/>
                <a:ea typeface="华文中宋"/>
              </a:rPr>
              <a:t>控制器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、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Gill Sans MT"/>
                <a:ea typeface="华文中宋"/>
              </a:rPr>
              <a:t>存储器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、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Gill Sans MT"/>
                <a:ea typeface="华文中宋"/>
              </a:rPr>
              <a:t>输入设备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和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Gill Sans MT"/>
                <a:ea typeface="华文中宋"/>
              </a:rPr>
              <a:t>输出设备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组成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24" name="Picture 3" descr=""/>
          <p:cNvPicPr/>
          <p:nvPr/>
        </p:nvPicPr>
        <p:blipFill>
          <a:blip r:embed="rId1"/>
          <a:srcRect l="0" t="25359" r="0" b="14981"/>
          <a:stretch/>
        </p:blipFill>
        <p:spPr>
          <a:xfrm>
            <a:off x="1100160" y="2997360"/>
            <a:ext cx="78645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34960" y="404280"/>
            <a:ext cx="749952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72314"/>
                </a:solidFill>
                <a:latin typeface="Gill Sans MT"/>
                <a:ea typeface="华文中宋"/>
              </a:rPr>
              <a:t>冯诺依曼机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1434960" y="10015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运算器：对二进制数进行运算的部件。它在控制器的控制下执行程序中的指令，完成各种算术运算、逻辑运算、比较运算、移位运算以及字符运算等。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存储器：用来存储数据和程序的部件。内存、硬盘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控制器：是指挥计算机的各个部件按照指令的功能要求协调工作的部件。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输入设备：用于输入程序、数据、操作命令、图形、图像以及声音等信息。常用的输入设备有键盘、鼠标器、扫描仪、光笔、数字化仪以及语音输入装置等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输出设备：用于显示或打印程序、运算结果、文字、图形、图像等，也可以播放声音。常用的输出设备有显示器、打印机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XY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绘图仪以及声音播放装置等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二部分：硬件知识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计算机有三类总线：控制总线 、地址总线、数据总线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现代计算机之所以能自动连续进行数据处理，主要因为具有存储程序的功能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计算机上插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U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盘的接口通常是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USB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标准接口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MIPS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常用来描述计算机的运算速度，其含义是每秒钟执行百万条指令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二部分：硬件知识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任何程序都必须加载到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Gill Sans MT"/>
                <a:ea typeface="华文中宋"/>
              </a:rPr>
              <a:t>内存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中才能被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执行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微型计算机的主存容量主要指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的容量，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代表的是随机存储器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631" name="Object 32"/>
          <p:cNvGraphicFramePr/>
          <p:nvPr/>
        </p:nvGraphicFramePr>
        <p:xfrm>
          <a:off x="2700360" y="3213000"/>
          <a:ext cx="4248000" cy="32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2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3213000"/>
                    <a:ext cx="424800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三部分：软件知识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计算机软件分为系统软件和应用软件两大类，其中处于核心地位的是系统软件，应用软件以系统软件为基础进行工作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在软件生命周期中，确定软件系统必须做什么和必须具备哪些功能的阶段是需求分析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1434960" y="33300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ASCII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码值由小到大的一般顺序是控制符、特殊符号、数字、大写字母、小写字母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36" name="Picture 2" descr="http://h.hiphotos.baidu.com/baike/c0%3Dbaike92%2C5%2C5%2C92%2C30/sign=a46b1bb9ffdcd100d991f07313e22c75/562c11dfa9ec8a13fc8be654f003918fa1ecc0f5.jpg"/>
          <p:cNvPicPr/>
          <p:nvPr/>
        </p:nvPicPr>
        <p:blipFill>
          <a:blip r:embed="rId1"/>
          <a:srcRect l="873" t="7553" r="873" b="4473"/>
          <a:stretch/>
        </p:blipFill>
        <p:spPr>
          <a:xfrm>
            <a:off x="1042920" y="1700280"/>
            <a:ext cx="80899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三部分：软件知识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数据库中数据模型的三个组成部分是数据结构、数据操作和数据完整性约束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在数据管理技术发展过程中，文件系统与数据库系统的重要区别是数据库具有特定的数据模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SQL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语句包括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SELECT 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、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INSERT 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、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UPDATE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三种。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select 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*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from 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工资表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where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性别＝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"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女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" and 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工资额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&gt;=2000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三部分：软件知识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在计算机系统中，可执行的程序是机器语言代码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计算机病毒是一种程序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常见的图片存储格式包括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JPG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BMP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GIF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RGB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模型能表示的颜色种数为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256*256*256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一部分：基础知识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世界上第一台电子计算机诞生于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1946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年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现代计算一般都是电子数字计算机，计算机系统中处理的信息是数字信号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一个字由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8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位二进制位组成，而一个字的长度与微处理器芯片的型号有关，如“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32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位微机”中的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32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指的是机器字长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计算机信息计量单位中的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K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代表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Gill Sans MT"/>
                <a:ea typeface="华文中宋"/>
              </a:rPr>
              <a:t>10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，其它单位包括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M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、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G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、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T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、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三部分：软件知识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一幅分辨率为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800×600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256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色图像文件大小为多少？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5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因为量化级数为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256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，所以图像的颜色深度为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5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故该图像文件大小为：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800×600×8÷8=480000 B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四部分：程序与算法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用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语言编写的程序需要用编译程序翻译后计算机才能识别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算法的基本结构包括选择结构、循环结构、顺序结构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算法的时间复杂度是指算法执行过程中所需要的基本运算次数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572314"/>
              </a:solidFill>
              <a:latin typeface="Gill Sans MT"/>
              <a:ea typeface="华文中宋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设栈的初始状态为空，元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1,2,3,4,5,6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依次入栈。若出栈的次序是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2,4,3,6,5,1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，则栈的容量至少为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1187280" y="3848040"/>
          <a:ext cx="576360" cy="1854360"/>
        </p:xfrm>
        <a:graphic>
          <a:graphicData uri="http://schemas.openxmlformats.org/drawingml/2006/table">
            <a:tbl>
              <a:tblPr/>
              <a:tblGrid>
                <a:gridCol w="576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1908000" y="3848040"/>
          <a:ext cx="576360" cy="1854360"/>
        </p:xfrm>
        <a:graphic>
          <a:graphicData uri="http://schemas.openxmlformats.org/drawingml/2006/table">
            <a:tbl>
              <a:tblPr/>
              <a:tblGrid>
                <a:gridCol w="576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3348000" y="3854520"/>
          <a:ext cx="576360" cy="1854000"/>
        </p:xfrm>
        <a:graphic>
          <a:graphicData uri="http://schemas.openxmlformats.org/drawingml/2006/table">
            <a:tbl>
              <a:tblPr/>
              <a:tblGrid>
                <a:gridCol w="576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4067280" y="3854520"/>
          <a:ext cx="576000" cy="1854000"/>
        </p:xfrm>
        <a:graphic>
          <a:graphicData uri="http://schemas.openxmlformats.org/drawingml/2006/table">
            <a:tbl>
              <a:tblPr/>
              <a:tblGrid>
                <a:gridCol w="57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1" name=""/>
          <p:cNvGraphicFramePr/>
          <p:nvPr/>
        </p:nvGraphicFramePr>
        <p:xfrm>
          <a:off x="4788000" y="3862440"/>
          <a:ext cx="576000" cy="1854000"/>
        </p:xfrm>
        <a:graphic>
          <a:graphicData uri="http://schemas.openxmlformats.org/drawingml/2006/table">
            <a:tbl>
              <a:tblPr/>
              <a:tblGrid>
                <a:gridCol w="57600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5508720" y="3848040"/>
          <a:ext cx="576000" cy="1854360"/>
        </p:xfrm>
        <a:graphic>
          <a:graphicData uri="http://schemas.openxmlformats.org/drawingml/2006/table">
            <a:tbl>
              <a:tblPr/>
              <a:tblGrid>
                <a:gridCol w="57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3" name=""/>
          <p:cNvGraphicFramePr/>
          <p:nvPr/>
        </p:nvGraphicFramePr>
        <p:xfrm>
          <a:off x="6227640" y="3840120"/>
          <a:ext cx="576360" cy="1854360"/>
        </p:xfrm>
        <a:graphic>
          <a:graphicData uri="http://schemas.openxmlformats.org/drawingml/2006/table">
            <a:tbl>
              <a:tblPr/>
              <a:tblGrid>
                <a:gridCol w="576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4" name=""/>
          <p:cNvGraphicFramePr/>
          <p:nvPr/>
        </p:nvGraphicFramePr>
        <p:xfrm>
          <a:off x="6948360" y="3840120"/>
          <a:ext cx="576360" cy="1854360"/>
        </p:xfrm>
        <a:graphic>
          <a:graphicData uri="http://schemas.openxmlformats.org/drawingml/2006/table">
            <a:tbl>
              <a:tblPr/>
              <a:tblGrid>
                <a:gridCol w="576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2627280" y="3851280"/>
          <a:ext cx="576360" cy="1854360"/>
        </p:xfrm>
        <a:graphic>
          <a:graphicData uri="http://schemas.openxmlformats.org/drawingml/2006/table">
            <a:tbl>
              <a:tblPr/>
              <a:tblGrid>
                <a:gridCol w="576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7709040" y="3840120"/>
          <a:ext cx="576000" cy="1854360"/>
        </p:xfrm>
        <a:graphic>
          <a:graphicData uri="http://schemas.openxmlformats.org/drawingml/2006/table">
            <a:tbl>
              <a:tblPr/>
              <a:tblGrid>
                <a:gridCol w="57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8450280" y="3848040"/>
          <a:ext cx="576360" cy="1854360"/>
        </p:xfrm>
        <a:graphic>
          <a:graphicData uri="http://schemas.openxmlformats.org/drawingml/2006/table">
            <a:tbl>
              <a:tblPr/>
              <a:tblGrid>
                <a:gridCol w="576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572314"/>
              </a:solidFill>
              <a:latin typeface="Gill Sans MT"/>
              <a:ea typeface="华文中宋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有一颗二叉树，中序遍历的结果是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(a-b)*(c+d)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，则后序遍历的结果可能是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ab-cd+*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0" name="椭圆 3"/>
          <p:cNvSpPr/>
          <p:nvPr/>
        </p:nvSpPr>
        <p:spPr>
          <a:xfrm>
            <a:off x="5011560" y="3054240"/>
            <a:ext cx="721080" cy="576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华文中宋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1" name="椭圆 4"/>
          <p:cNvSpPr/>
          <p:nvPr/>
        </p:nvSpPr>
        <p:spPr>
          <a:xfrm>
            <a:off x="3419640" y="3933720"/>
            <a:ext cx="720720" cy="5749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华文中宋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2" name="椭圆 5"/>
          <p:cNvSpPr/>
          <p:nvPr/>
        </p:nvSpPr>
        <p:spPr>
          <a:xfrm>
            <a:off x="6588000" y="3933720"/>
            <a:ext cx="720720" cy="5749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华文中宋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3" name="椭圆 6"/>
          <p:cNvSpPr/>
          <p:nvPr/>
        </p:nvSpPr>
        <p:spPr>
          <a:xfrm>
            <a:off x="2700360" y="5091120"/>
            <a:ext cx="719280" cy="576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华文中宋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4" name="椭圆 7"/>
          <p:cNvSpPr/>
          <p:nvPr/>
        </p:nvSpPr>
        <p:spPr>
          <a:xfrm>
            <a:off x="4140360" y="5091120"/>
            <a:ext cx="718920" cy="576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华文中宋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5" name="椭圆 8"/>
          <p:cNvSpPr/>
          <p:nvPr/>
        </p:nvSpPr>
        <p:spPr>
          <a:xfrm>
            <a:off x="5867280" y="5091120"/>
            <a:ext cx="720720" cy="576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华文中宋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6" name="椭圆 9"/>
          <p:cNvSpPr/>
          <p:nvPr/>
        </p:nvSpPr>
        <p:spPr>
          <a:xfrm>
            <a:off x="7308720" y="5091120"/>
            <a:ext cx="719280" cy="576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华文中宋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直接连接符 11"/>
          <p:cNvSpPr/>
          <p:nvPr/>
        </p:nvSpPr>
        <p:spPr>
          <a:xfrm flipH="1">
            <a:off x="4033800" y="3544920"/>
            <a:ext cx="1084320" cy="4730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8" name="直接连接符 13"/>
          <p:cNvSpPr/>
          <p:nvPr/>
        </p:nvSpPr>
        <p:spPr>
          <a:xfrm>
            <a:off x="5626080" y="3544920"/>
            <a:ext cx="1066680" cy="4730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9" name="直接连接符 15"/>
          <p:cNvSpPr/>
          <p:nvPr/>
        </p:nvSpPr>
        <p:spPr>
          <a:xfrm flipH="1">
            <a:off x="3059280" y="4424400"/>
            <a:ext cx="466560" cy="6667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0" name="直接连接符 18"/>
          <p:cNvSpPr/>
          <p:nvPr/>
        </p:nvSpPr>
        <p:spPr>
          <a:xfrm>
            <a:off x="4033800" y="4424400"/>
            <a:ext cx="466920" cy="6667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1" name="直接连接符 20"/>
          <p:cNvSpPr/>
          <p:nvPr/>
        </p:nvSpPr>
        <p:spPr>
          <a:xfrm flipH="1">
            <a:off x="6227640" y="4424400"/>
            <a:ext cx="465120" cy="6667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2" name="直接连接符 22"/>
          <p:cNvSpPr/>
          <p:nvPr/>
        </p:nvSpPr>
        <p:spPr>
          <a:xfrm>
            <a:off x="7202520" y="4424400"/>
            <a:ext cx="465120" cy="6667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四部分：算法与程序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指令和程序有何区别？计算机执行指令的过程是如何完成的？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4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指令：指令是能被计算机识别并执行的的二进制代码，完成某一种操作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4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程序：是指令和数据的集合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4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执行指令应该分为四步：取指令、分析指令、执行指令、一条指令执行完成后，程序计数器自动加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或将转移地址码送入程序计数器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五部分：网络知识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协议是不同系统同层对等实体之间的规则和标准，在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Internet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上用于收发电子邮件的协议是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POP3/SMT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不同的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Internet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接入方式具有不同的连接速度，其中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Modem&lt;ISDN&lt;ADSL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的速度。传输速率的单位是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bps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，其含义是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Bits Per Sec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调制解调器（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Modem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）的功能是实现数字信号与模拟信号的转换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五部分：网络知识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用以太网形式构成的局域网的拓扑结构为总线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局域网与广域网的互联一般通过路由器设备实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目前使用的网络传输介质中，传输速率最高的是光纤，此外常用的还有同轴电缆 、双绞线等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密码学包括密码编码学和密码分析学两个分支，用于进行数字签名的加密算法是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华文中宋"/>
              </a:rPr>
              <a:t>RS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五部分：网络知识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什么是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IP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地址、什么是域名？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5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TCP/IP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协议中的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部分定义了能够标识因特网上计算机的地址格式，称为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地址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5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一个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地址由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个点分为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部分，采用点分十进制数法表示，如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202.204.128.9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5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每部分为一个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位组，有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0~255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共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256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中表示方法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5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域名：代替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地址进行表示的名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六部分：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Office</a:t>
            </a: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应用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Word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文档所见即所得的视图是页面视图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Excel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表的单元格中计算一组数据后出现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########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，是由于单元格显示宽度不够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若在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Excel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的同一单元格中输入的文本有两个段落，则第一段落输完后应使用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Alt+Enter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键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用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制作的演示文稿默认的扩展名是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pptx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Excel 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xls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Word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doc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六部分：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Office</a:t>
            </a: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应用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Excel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中的常用函数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MAX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MIN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SUM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AVERAGE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IF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COUNT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COUNTIF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中使用自定义动画时，各种对象均可设置动画，同时还可配置声音，还可将对象设置成播放后隐藏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练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世界上第一台电子计算机诞生于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　     　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A. 1941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年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B. 1946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年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C. 1949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年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D. 1950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 txBox="1"/>
          <p:nvPr/>
        </p:nvSpPr>
        <p:spPr>
          <a:xfrm>
            <a:off x="1434960" y="692280"/>
            <a:ext cx="7499520" cy="55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810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Gill Sans MT"/>
                <a:ea typeface="华文中宋"/>
              </a:rPr>
              <a:t>谢谢！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810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810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  <a:ea typeface="华文中宋"/>
              </a:rPr>
              <a:t>2018</a:t>
            </a:r>
            <a:r>
              <a:rPr b="0" lang="zh-CN" sz="4000" spc="-1" strike="noStrike">
                <a:solidFill>
                  <a:srgbClr val="000000"/>
                </a:solidFill>
                <a:latin typeface="Gill Sans MT"/>
                <a:ea typeface="华文中宋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Gill Sans MT"/>
                <a:ea typeface="华文中宋"/>
              </a:rPr>
              <a:t>12</a:t>
            </a:r>
            <a:r>
              <a:rPr b="0" lang="zh-CN" sz="4000" spc="-1" strike="noStrike">
                <a:solidFill>
                  <a:srgbClr val="000000"/>
                </a:solidFill>
                <a:latin typeface="Gill Sans MT"/>
                <a:ea typeface="华文中宋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Gill Sans MT"/>
                <a:ea typeface="华文中宋"/>
              </a:rPr>
              <a:t>11</a:t>
            </a:r>
            <a:r>
              <a:rPr b="0" lang="zh-CN" sz="4000" spc="-1" strike="noStrike">
                <a:solidFill>
                  <a:srgbClr val="000000"/>
                </a:solidFill>
                <a:latin typeface="Gill Sans MT"/>
                <a:ea typeface="华文中宋"/>
              </a:rPr>
              <a:t>日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练习题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微处理器处理的数据基本单位为字。一个字的长度通常是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(         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A. 16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个二进制位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B. 32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个二进制位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C. 64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个二进制位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与微处理器芯片的型号有关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一部分：基础知识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十、二、八及十六进制的简单数的表示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574" name="Object 28"/>
          <p:cNvGraphicFramePr/>
          <p:nvPr/>
        </p:nvGraphicFramePr>
        <p:xfrm>
          <a:off x="1258920" y="2246400"/>
          <a:ext cx="7561080" cy="377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5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246400"/>
                    <a:ext cx="7561080" cy="37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一部分：基础知识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十进制数         变换成的二进制数是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Object 54"/>
              <p:cNvSpPr txBox="1"/>
              <p:nvPr/>
            </p:nvSpPr>
            <p:spPr>
              <a:xfrm>
                <a:off x="3419640" y="1700280"/>
                <a:ext cx="6476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7</m:t>
                            </m:r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579" name="Object 55"/>
          <p:cNvGraphicFramePr/>
          <p:nvPr/>
        </p:nvGraphicFramePr>
        <p:xfrm>
          <a:off x="7451640" y="1662120"/>
          <a:ext cx="1297080" cy="42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0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1640" y="1662120"/>
                    <a:ext cx="129708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Rectangle 3"/>
          <p:cNvSpPr/>
          <p:nvPr/>
        </p:nvSpPr>
        <p:spPr>
          <a:xfrm>
            <a:off x="1212840" y="2416320"/>
            <a:ext cx="5195880" cy="33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496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2   67......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余数     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0496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2   33......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余数     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0496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2   16......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余数     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0496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2   8 ......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余数      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0496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2   4 ......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余数      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0496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2   2 ......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余数      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0496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1 </a:t>
            </a:r>
            <a:r>
              <a:rPr b="0" lang="zh-CN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（此处不再除）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华文中宋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82" name="Group 23"/>
          <p:cNvGrpSpPr/>
          <p:nvPr/>
        </p:nvGrpSpPr>
        <p:grpSpPr>
          <a:xfrm>
            <a:off x="2340000" y="2492280"/>
            <a:ext cx="3091320" cy="2736360"/>
            <a:chOff x="2340000" y="2492280"/>
            <a:chExt cx="3091320" cy="2736360"/>
          </a:xfrm>
        </p:grpSpPr>
        <p:grpSp>
          <p:nvGrpSpPr>
            <p:cNvPr id="583" name="Group 5"/>
            <p:cNvGrpSpPr/>
            <p:nvPr/>
          </p:nvGrpSpPr>
          <p:grpSpPr>
            <a:xfrm>
              <a:off x="2340000" y="2492280"/>
              <a:ext cx="3091320" cy="466920"/>
              <a:chOff x="2340000" y="2492280"/>
              <a:chExt cx="3091320" cy="466920"/>
            </a:xfrm>
          </p:grpSpPr>
          <p:sp>
            <p:nvSpPr>
              <p:cNvPr id="584" name="Line 6"/>
              <p:cNvSpPr/>
              <p:nvPr/>
            </p:nvSpPr>
            <p:spPr>
              <a:xfrm>
                <a:off x="2340000" y="2492280"/>
                <a:ext cx="0" cy="46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585" name="Line 7"/>
              <p:cNvSpPr/>
              <p:nvPr/>
            </p:nvSpPr>
            <p:spPr>
              <a:xfrm>
                <a:off x="2340000" y="2945520"/>
                <a:ext cx="309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86" name="Group 8"/>
            <p:cNvGrpSpPr/>
            <p:nvPr/>
          </p:nvGrpSpPr>
          <p:grpSpPr>
            <a:xfrm>
              <a:off x="2340000" y="2946600"/>
              <a:ext cx="3091320" cy="466920"/>
              <a:chOff x="2340000" y="2946600"/>
              <a:chExt cx="3091320" cy="466920"/>
            </a:xfrm>
          </p:grpSpPr>
          <p:sp>
            <p:nvSpPr>
              <p:cNvPr id="587" name="Line 9"/>
              <p:cNvSpPr/>
              <p:nvPr/>
            </p:nvSpPr>
            <p:spPr>
              <a:xfrm>
                <a:off x="2340000" y="2946600"/>
                <a:ext cx="0" cy="46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588" name="Line 10"/>
              <p:cNvSpPr/>
              <p:nvPr/>
            </p:nvSpPr>
            <p:spPr>
              <a:xfrm>
                <a:off x="2340000" y="3399840"/>
                <a:ext cx="309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89" name="Group 11"/>
            <p:cNvGrpSpPr/>
            <p:nvPr/>
          </p:nvGrpSpPr>
          <p:grpSpPr>
            <a:xfrm>
              <a:off x="2340000" y="3400920"/>
              <a:ext cx="3091320" cy="464040"/>
              <a:chOff x="2340000" y="3400920"/>
              <a:chExt cx="3091320" cy="464040"/>
            </a:xfrm>
          </p:grpSpPr>
          <p:sp>
            <p:nvSpPr>
              <p:cNvPr id="590" name="Line 12"/>
              <p:cNvSpPr/>
              <p:nvPr/>
            </p:nvSpPr>
            <p:spPr>
              <a:xfrm>
                <a:off x="2340000" y="3400920"/>
                <a:ext cx="0" cy="46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591" name="Line 13"/>
              <p:cNvSpPr/>
              <p:nvPr/>
            </p:nvSpPr>
            <p:spPr>
              <a:xfrm>
                <a:off x="2340000" y="3851280"/>
                <a:ext cx="309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92" name="Group 14"/>
            <p:cNvGrpSpPr/>
            <p:nvPr/>
          </p:nvGrpSpPr>
          <p:grpSpPr>
            <a:xfrm>
              <a:off x="2340000" y="3852360"/>
              <a:ext cx="3091320" cy="466920"/>
              <a:chOff x="2340000" y="3852360"/>
              <a:chExt cx="3091320" cy="466920"/>
            </a:xfrm>
          </p:grpSpPr>
          <p:sp>
            <p:nvSpPr>
              <p:cNvPr id="593" name="Line 15"/>
              <p:cNvSpPr/>
              <p:nvPr/>
            </p:nvSpPr>
            <p:spPr>
              <a:xfrm>
                <a:off x="2340000" y="3852360"/>
                <a:ext cx="0" cy="46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594" name="Line 16"/>
              <p:cNvSpPr/>
              <p:nvPr/>
            </p:nvSpPr>
            <p:spPr>
              <a:xfrm>
                <a:off x="2340000" y="4305600"/>
                <a:ext cx="309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95" name="Group 17"/>
            <p:cNvGrpSpPr/>
            <p:nvPr/>
          </p:nvGrpSpPr>
          <p:grpSpPr>
            <a:xfrm>
              <a:off x="2340000" y="4307400"/>
              <a:ext cx="3091320" cy="466200"/>
              <a:chOff x="2340000" y="4307400"/>
              <a:chExt cx="3091320" cy="466200"/>
            </a:xfrm>
          </p:grpSpPr>
          <p:sp>
            <p:nvSpPr>
              <p:cNvPr id="596" name="Line 18"/>
              <p:cNvSpPr/>
              <p:nvPr/>
            </p:nvSpPr>
            <p:spPr>
              <a:xfrm>
                <a:off x="2340000" y="4307400"/>
                <a:ext cx="0" cy="46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597" name="Line 19"/>
              <p:cNvSpPr/>
              <p:nvPr/>
            </p:nvSpPr>
            <p:spPr>
              <a:xfrm>
                <a:off x="2340000" y="4759920"/>
                <a:ext cx="309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98" name="Group 20"/>
            <p:cNvGrpSpPr/>
            <p:nvPr/>
          </p:nvGrpSpPr>
          <p:grpSpPr>
            <a:xfrm>
              <a:off x="2340000" y="4761720"/>
              <a:ext cx="3091320" cy="466920"/>
              <a:chOff x="2340000" y="4761720"/>
              <a:chExt cx="3091320" cy="466920"/>
            </a:xfrm>
          </p:grpSpPr>
          <p:sp>
            <p:nvSpPr>
              <p:cNvPr id="599" name="Line 21"/>
              <p:cNvSpPr/>
              <p:nvPr/>
            </p:nvSpPr>
            <p:spPr>
              <a:xfrm>
                <a:off x="2340000" y="4761720"/>
                <a:ext cx="0" cy="46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600" name="Line 22"/>
              <p:cNvSpPr/>
              <p:nvPr/>
            </p:nvSpPr>
            <p:spPr>
              <a:xfrm>
                <a:off x="2340000" y="5214960"/>
                <a:ext cx="309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一部分：基础知识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36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求：          的二进制数（精度为小数点后取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位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解：乘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2             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纯小数部分       整数部分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0.123×2              0.246              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0.246×2              0.492              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0.492×2              0.984              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0.984×2              1.968              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0.968×2              1.936              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0.936×2              1.872              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0.872×2              1.744              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0.744×2              1.488              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结果为：                  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Object 54"/>
              <p:cNvSpPr txBox="1"/>
              <p:nvPr/>
            </p:nvSpPr>
            <p:spPr>
              <a:xfrm>
                <a:off x="3384720" y="5516640"/>
                <a:ext cx="18000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11111</m:t>
                            </m:r>
                          </m:e>
                        </m:d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Object 55"/>
              <p:cNvSpPr txBox="1"/>
              <p:nvPr/>
            </p:nvSpPr>
            <p:spPr>
              <a:xfrm>
                <a:off x="2411280" y="1484280"/>
                <a:ext cx="936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3</m:t>
                            </m:r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一部分：基础知识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假定某台计算机的机器数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位，则十进制数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-23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华文中宋"/>
              </a:rPr>
              <a:t>的原码、反码和补码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5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[-23]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原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= 1001011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5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[-23]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反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= 11101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5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[-23]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补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华文中宋"/>
              </a:rPr>
              <a:t>= 1110100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4"/>
          <p:cNvSpPr/>
          <p:nvPr/>
        </p:nvSpPr>
        <p:spPr>
          <a:xfrm>
            <a:off x="1073160" y="692280"/>
            <a:ext cx="79628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            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运算器     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中央处理单元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CPU     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寄存器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                    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控制器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主机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        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硬件系统                                                只读存储器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ROM        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主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内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)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存储器       随机读写存储器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RAM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SRAM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DRAM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               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高速缓冲存储器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Cache 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CMOS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外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辅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)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存储器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软盘、硬盘、光盘、闪存等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)  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外围设备     输入设备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键盘、鼠标、扫描仪等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输出设备（显示器、打印机、绘图仪等）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其它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网卡、调制解调器、多媒体设备等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) 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                              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操作系统：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UNIX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Linux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等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系统软件    语言处理程序：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C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Pascal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VB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等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实用程序：诊断程序、排错程序等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       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软件系统                          数据库管理系统等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-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各种专用软件包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例如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Office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系列软件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) 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Gill Sans MT"/>
                <a:ea typeface="华文中宋"/>
              </a:rPr>
              <a:t>应用软件     各种面向社会的应用程序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AutoShape 5"/>
          <p:cNvSpPr/>
          <p:nvPr/>
        </p:nvSpPr>
        <p:spPr>
          <a:xfrm>
            <a:off x="1577880" y="1916280"/>
            <a:ext cx="360360" cy="3168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82440 h 3168360"/>
              <a:gd name="textAreaBottom" fmla="*/ 3085920 h 31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9" name="AutoShape 6"/>
          <p:cNvSpPr/>
          <p:nvPr/>
        </p:nvSpPr>
        <p:spPr>
          <a:xfrm>
            <a:off x="2728800" y="1628640"/>
            <a:ext cx="289080" cy="1727280"/>
          </a:xfrm>
          <a:custGeom>
            <a:avLst/>
            <a:gdLst>
              <a:gd name="textAreaLeft" fmla="*/ 184680 w 289080"/>
              <a:gd name="textAreaRight" fmla="*/ 289080 w 28908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0" name="AutoShape 7"/>
          <p:cNvSpPr/>
          <p:nvPr/>
        </p:nvSpPr>
        <p:spPr>
          <a:xfrm>
            <a:off x="3521160" y="1123920"/>
            <a:ext cx="360360" cy="1079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AutoShape 8"/>
          <p:cNvSpPr/>
          <p:nvPr/>
        </p:nvSpPr>
        <p:spPr>
          <a:xfrm>
            <a:off x="5610240" y="763560"/>
            <a:ext cx="216000" cy="720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AutoShape 9"/>
          <p:cNvSpPr/>
          <p:nvPr/>
        </p:nvSpPr>
        <p:spPr>
          <a:xfrm>
            <a:off x="3808440" y="3068640"/>
            <a:ext cx="288720" cy="792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AutoShape 10"/>
          <p:cNvSpPr/>
          <p:nvPr/>
        </p:nvSpPr>
        <p:spPr>
          <a:xfrm>
            <a:off x="2873520" y="4508640"/>
            <a:ext cx="360360" cy="1295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AutoShape 11"/>
          <p:cNvSpPr/>
          <p:nvPr/>
        </p:nvSpPr>
        <p:spPr>
          <a:xfrm>
            <a:off x="4025880" y="4292640"/>
            <a:ext cx="216000" cy="79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5" name="AutoShape 12"/>
          <p:cNvSpPr/>
          <p:nvPr/>
        </p:nvSpPr>
        <p:spPr>
          <a:xfrm>
            <a:off x="4170240" y="5445000"/>
            <a:ext cx="142920" cy="43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" name="Text Box 13"/>
          <p:cNvSpPr/>
          <p:nvPr/>
        </p:nvSpPr>
        <p:spPr>
          <a:xfrm>
            <a:off x="1050120" y="1917720"/>
            <a:ext cx="4546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电子计算机系统结构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AutoShape 14"/>
          <p:cNvSpPr/>
          <p:nvPr/>
        </p:nvSpPr>
        <p:spPr>
          <a:xfrm>
            <a:off x="5249880" y="1916280"/>
            <a:ext cx="287280" cy="720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0T03:15:20Z</dcterms:created>
  <dc:creator/>
  <dc:description/>
  <dc:language>en-US</dc:language>
  <cp:lastModifiedBy/>
  <dcterms:modified xsi:type="dcterms:W3CDTF">2018-12-12T01:23:38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822959990</vt:lpwstr>
  </property>
</Properties>
</file>