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5966-7CD1-473E-94DB-78123C67EBA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7914-4055-4FB7-A756-A8017B21A0D0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提示：在此处添加您的备注文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5649-ED9C-4A80-AD73-F861E41020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提示：在此处添加您的备注文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D9D9-4CC9-42F7-A896-1550258FA8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922-35CF-474E-9EEA-6F4ECBAC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824-3760-4D99-9D23-6ABC46FE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F1EB1-671A-49A2-9B7E-9D74031A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C5ECF-4417-4FBC-8615-E4897488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2789F-606F-473F-879B-85D1CB94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27696-9F6E-434D-960C-6665522A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BA402-4665-4ED1-A2D2-F3D6241E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E4760-DC94-497E-971E-133015F2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1CFF7-5E90-418C-BD35-22E801AC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DDF56-4315-413A-A79E-63C269FD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0FF06-1D39-4EA5-912F-499531BB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F958D-FD26-4AC8-BEF9-0EE6A6A4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9EC-4802-4DD2-8185-7F3DB089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E4FA3-63A6-49E0-960B-27A2351F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A5DA7-8F05-4B08-81B0-DF54B351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FD5B7-DB09-4D5C-8A2F-A5D91B57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9C5A9-144A-4B4D-898F-69C8F95E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B1303-ABCA-4BF5-ACB3-9578BB8D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0209D-648E-4F27-9ECB-66EDDE6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FE3B1-3107-4C80-A978-828BAC3E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F7A15-2E3B-4E7E-AC4A-985FACD0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1ADAF-F605-4357-BE5F-AB327AEF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D264C-5D9C-4ECF-8ED5-ECD13687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C9C-F3EF-44DD-B087-4E05B521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5FC87-EF9B-4AB6-95F2-DE6C6C2D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82809-7335-4727-BD0C-DD0D9C78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0B857-D1C8-45D1-9544-83CEA1CC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79A3D-36B5-4CB5-86BF-43161592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7CCE6-4D09-4A39-8BAE-AE2DC608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567D8-FFCF-4828-9981-0F4CE9A6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2560E-2C0D-44A3-A3AD-9B0A7C1E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6428B-BB0C-4701-AC24-11B99FDC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955E2-41A7-4519-B6EE-C2E5F63A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6B326-8F9D-4867-80EB-9BB63D79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9D25-FAAA-4E4C-BC55-D15FE19C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75922-57DA-421C-8C95-92FD271A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E818D-8333-4F57-9EFE-9321041A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DDAFF-8D0A-4A33-A012-1B460755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7E939-494B-4BF1-9815-A3D05E6C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36328-3470-47E2-9D4C-D7F994DE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A5B07-6ED9-4B22-9B87-78174666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0F7EA-B7B9-42B6-B0EA-39866AFE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8CDE3-CC9E-4929-8D37-59088B4C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B2A5D-8964-486F-A228-CB5728DA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64820-752B-48C1-84F8-E14AB8C1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F840-F5A0-4EBF-AE18-047913CC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1DFFC-526E-4A79-A24B-385A5F52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FAE74-121A-47E4-B8C8-6B2302C5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7A6DE-7EEF-466B-ACDA-D1634468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66553-A92B-474B-890C-E05CA5D0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C9917-433A-44D6-9755-69EE8F5E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946C-CEDE-487C-B6B4-AAEA87D9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9425-BD7B-4B29-954B-8A14A0CE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9FA7-B352-4B04-BDE7-C6C285B8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5CD9-CDBE-48EE-B498-E987C433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E03D-4E2F-4E3E-B222-0EAC7AB1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0EF-2F00-442D-AC49-136D43CF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5B63-0FAF-4B53-83DB-16C34FA2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EF4A-F9F4-4012-8822-17173204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C6D3-712E-4105-9ED8-85065CF1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ABDD-FC33-4AFA-B640-3F07A93B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40FF-8EE5-4B09-8D3A-FB582FC8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99C5-D279-4521-84D3-39D7557B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4FA1-4D72-45E1-90B3-7EFC0AC3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94A0E-6285-4734-88E5-8BF03899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A656F-4B08-42CA-B7D8-FA7AFB95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5039A-3C8C-45AB-9ABC-8F1CF06E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EE1-B299-4CAE-B1BC-6682769E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25A0E-D609-47FE-AD45-27EE1EEF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F3938-9AC9-4603-8BB0-4BBB6C69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9658C-9EE5-4565-B36A-754D2F18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D8FC0-A36D-4B1D-84D2-1E0C5924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14B2C-EC87-4D25-A82B-AC6FAFF9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B7B6-0882-40C8-9245-E51AC573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3068-BD78-41FF-B4B9-EC8BB715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ECC12-3B70-4150-94E7-1900E34D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91EA4-CF8C-4DA4-9A67-7F9EC614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9B92F-CBE3-4A2E-AD66-86B20698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019-FB35-43B1-A391-BD7023BC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BC3D8-7192-4E7B-928D-3BEC830B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8D64D-9917-4100-A7DE-AE17F801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89165-ABB3-4E61-8649-39F09CA6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D5142-44F9-4EA2-92AE-F7AFE83B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00A96-F284-4CA6-ACE4-BB319236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89F89-7EA4-4F05-92F2-C78AD330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12CBE-5954-4640-85D6-432517A2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EDFA-3C22-43C3-927C-631F7B35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8EF81-4F7C-4686-BD38-D63DAD2B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6556E-C96D-439A-8DB6-B3BA9B93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0DF-5522-4150-9795-4867015B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552E1-BFF1-4196-AEE0-CEBC9109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253FE-D80C-47E2-8B1C-C494F805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73DA0-FC3E-4B87-9D2F-067ACBD6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E27BF-C635-411E-9A6A-29218332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154E9-4025-412E-AF46-124A67EA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7044C-E975-4AF2-9E6F-F6C1CA11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28051-AE66-4C27-ACBF-1C4069F0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FE336-954D-4675-9024-DD5EC740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03FA-B1C9-47D0-8C3B-97701020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E3F73-0CF6-42ED-95B7-09D9777B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566-E2F4-4D75-B12E-99994C1D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F658E-4E93-4D9D-9FFE-0BA6724C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3A1C3-5439-41DF-B0A9-F4D108A3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9255B-D100-4268-AF20-642DC2AC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ED44C-AD53-4035-A1FD-6C7F188F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2ABB2-9EAB-4934-A390-E1306A5F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52BA0-413F-43DD-961A-D07E54FC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6B63-5B7E-4DB9-AB9C-6F89479D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25720-A15F-448E-B906-A8605FFA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005C8-16F8-4896-B5F6-A2943FE0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78E66-5C2F-4087-B6B1-4CE600D0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3AD-83F1-47A2-AA48-007927F9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22ED5-3E7D-4644-A3B1-DADA1AD2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3E730-CF8E-41DE-8E83-9E5528B4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22979-046C-4BFB-972E-29A5B87E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910D0-31D8-4D89-9A5B-D5D9EB77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8D14B-730A-45E7-A62A-BCEC4AF0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69F04-9766-4431-A568-5A04DB83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BC783-8742-4F47-8B2B-478802F3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20225-7CBB-4191-ACDF-E4451E68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9A295-3A1D-48EC-B538-860EDDA9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33F46-1713-4809-B043-A59E1CC0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013-D41A-4E43-B7E4-AE815EEE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F68BB-C432-4236-B2A9-47FB1236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C7EE1-6FCF-45DE-AFEA-4AD76D48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22205-FC6D-4D8A-887D-54AF05EA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FFE8A-459B-4E1F-8E85-F7202E27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21D85-0652-4923-A4AB-DE0D7520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93094-565E-4D6C-8B29-25061C83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5AD9E-D1DB-403B-B868-EE85F1D9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9972B-6EE8-4DBE-A444-794256C9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E4444-4DC0-4237-AFDC-1530BF0B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F206F-E8CC-4C3D-98DD-BFEAF8D7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58A-EDD8-4E82-9081-BCC3BC4D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BC9DE-175A-47F4-A26B-F27ABCAC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7D9F4-F13C-48EA-93FF-37BD7109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0E422-59EB-4B2F-8BC1-9D85D1B2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19F1E-4225-4B08-AED1-90B4DFF2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D644C-862A-46AF-B606-A2A92A53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A177F-6AC5-4942-B4E1-6478DDA3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8926-FF81-44ED-B1F9-F27A2199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EED34-A400-49E3-AF00-C1BC20EF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69798-656E-40AC-8B43-F5A4E0D7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B220C-A4FF-4A5A-B622-B9B7F96C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9B9D-A9D3-4A16-B051-749EC067DFBD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6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8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4D54-6DD6-4221-8C27-EF4266D7F04D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6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36D3-DE02-498F-90FA-1CCCD0812D63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3DE4-2C84-42CD-9708-C1DDA62DE0AF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AD51-640D-4D6C-9586-699995F4418B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84C5-8385-436C-9669-591E5A2AB0A7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28D7-3505-4241-916F-FE41315EDC84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8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33560" y="0"/>
            <a:ext cx="8130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D67C-0CB0-48F1-8A52-5C706FCACE29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1483-BB7E-4921-924B-E8D66CC2208D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5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6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8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C154-7255-49A6-B3AC-B1546D87EB6D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BE1A-F0F4-4F38-9FB1-CBBD7941786D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D3B7-C72F-4A01-B3DA-D4861447BEC0}" type="slidenum">
              <a:rPr b="0" lang="zh-CN" sz="1200" spc="-1" strike="noStrike">
                <a:solidFill>
                  <a:srgbClr val="b5a788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43632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  <a:ea typeface="华文中宋"/>
              </a:rPr>
              <a:t>C</a:t>
            </a:r>
            <a:r>
              <a:rPr b="0" lang="zh-CN" sz="4400" spc="-1" strike="noStrike">
                <a:solidFill>
                  <a:srgbClr val="572314"/>
                </a:solidFill>
                <a:latin typeface="Gill Sans MT"/>
                <a:ea typeface="华文中宋"/>
              </a:rPr>
              <a:t>语言程序设计考前串讲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431720" y="412380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梁野 副教授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2018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12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12</a:t>
            </a:r>
            <a:r>
              <a:rPr b="0" lang="zh-CN" sz="2600" spc="-1" strike="noStrike">
                <a:solidFill>
                  <a:srgbClr val="320e04"/>
                </a:solidFill>
                <a:latin typeface="Gill Sans MT"/>
                <a:ea typeface="华文中宋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面的函数调用语句中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un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函数的实参个数是（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unc(f2(v1, v2),(v3, v4, v5),(v6, max(v7, v8)))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有定义语句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ar s[10]="1234567\0\0";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则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rlen(s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值是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har s[ ]={"aeiou"}, *ps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ps=s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printf("%c\n",*ps+4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程序运行后的输出结果是（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A) 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B) 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) 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D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元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s[4]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地址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选项中，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大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奇数时，值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达式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)  x%2==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B)  x/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%2!=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)  x%2==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int aa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har *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har *t=s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++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--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etur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-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以下关于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a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函数的功能叙述正确的是 （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求字符串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长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比较两个串的大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将串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复制到串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求字符串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所占字节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有以下程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#include  &lt;stdio.h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{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int a=1,b=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printf("%d,",b=a+b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printf("%d\n",a=2*b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程序运行后的输出结果是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,2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以下程序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#include  &lt;stdio.h&gt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{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har s[]={"012xy"};int i,n=0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for(i=0;s[i]!=0;i++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if(s[i]&gt;= 'a' &amp;&amp;s[i]&lt;= 'z') n++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printf("%d\n",n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程序运行后的输出结果是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	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以下程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#include  &lt;stdio.h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{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har c1,c2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1='A'+'8'-'4'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2='A'+'8'-'5'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rintf("%c,%d\n",c1,c2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已知字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码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程序运行后的输出结果是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E,68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二部分：程序运行结果判断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有以下程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#includes &lt;stdio.h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{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int a=1,b=2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for(;a&lt;8;a++) {b+=a; a+=2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printf 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＂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%d,%d\n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＂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,a,b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程序运行后的输出结果是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,14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程序实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任意输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整数并存入数组，求出其中的最大值、次大值、最小值、次小值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考试形式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题型：选择、判断、填空、程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考查方式：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对基本概念的掌握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对程序片段的理解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对程序功能的实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要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熟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4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实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1434960" y="189000"/>
            <a:ext cx="749952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i,j,num[10],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(i=0;i&lt;10;i++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canf("%d",&amp;num[i]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(i=1;i&lt;10;i++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(j=0;j&lt;=10-i;j++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(num[j]&lt;=num[j+1]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=num[j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num[j]=num[j+1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num[j+1]=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rintf("%d %d %d %d ",num[0],num[1],num[9],num[8]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452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程序实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编写一个复制字符串的递归函数，用于完成串拷贝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三部分：程序实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 a[10];char b[10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 i=0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ts(a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py(a,b,i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ts(b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py(char a[],char b[],int i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f(a[i]!='\0'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py(a,b,i+1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[i]=a[i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谢谢！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018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于简单程序设计的步骤和顺序是，首先确定数据结构，然后确定算法，再编码，并上机调试，最后整理文档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户所定义的标识符必须以字母或下划线开头，大、小写字母代表不同标识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组名代表的是数组所占存储区的首地址，其值不可改变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算法的空间复杂度是指算法在执行过程中所需要的计算机存储空间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被调试程序进行“错误定位”是程序调试的必要步骤，程序调试也称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ebu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件测试应严格执行测试计划，排除测试的随意性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对文件的读（写）操作完成之后，必须将它关闭，否则可能导致数据丢失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指向某二进制文件的指针，且已读到此文件末尾，则函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eof(fp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返回值为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正确的字符串常量是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"\\\"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'abc'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ympicGa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""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选项中不属于字符常量的是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) 'C'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"C"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'\xCC'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'\072'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定义语句中正确的是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) int a=b=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ar A=65+1,b='b'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oat a=1,b=&amp;a,c=&amp;b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ouble a=0.0;b=1.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72314"/>
                </a:solidFill>
                <a:latin typeface="Gill Sans MT"/>
                <a:ea typeface="华文中宋"/>
              </a:rPr>
              <a:t>第一部分：基本概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有定义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t a[2][3];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以下选项中对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组元素正确引用的是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[2][!1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[2][3]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[0][3]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[1&gt;2][!1]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3:15:20Z</dcterms:created>
  <dc:creator>Dino</dc:creator>
  <dc:description/>
  <dc:language>en-US</dc:language>
  <cp:lastModifiedBy/>
  <dcterms:modified xsi:type="dcterms:W3CDTF">2018-12-13T02:40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822959990</vt:lpwstr>
  </property>
</Properties>
</file>