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885-4AFF-437B-B382-33A8D2190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DC1-7579-40C7-A5B8-4B078F8623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944-9505-47C9-9FD5-45718FE0D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1580-4126-4AF8-8DE2-13D1550B7D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DBF2-0F4C-4853-8D74-525B6FB7DF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EB7-7617-462E-A8B3-87B9FAE46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8130-A48C-4C41-9259-9707A440F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597-BEFD-4B9D-97BC-1E9FB69B14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F6FD-D824-4864-B42A-8C3DCA6E7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中日软件恳谈会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1AD-D7BA-4BA4-873B-711779D30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F01A-56DE-4862-9755-809983C2D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733-CD24-48D9-8210-639ECB80B6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2588-7908-4AC2-8103-5F1DED4F5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FE7-6967-4D30-9700-A333F4012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310-AC10-4D84-B6C6-C3AB712FF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E236-7967-4AEC-B255-A355E72DB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CA0A-6A4D-401A-9ADB-ED3D67989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160-43B7-49E1-8D8C-098AC903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09A-77FF-4D5F-B7BA-5ED424E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E7E9-058B-4E4B-9CB7-299D792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86574-EA24-4CA0-A855-D476FB1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7AF45-32A9-465A-8160-11FA6967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31479-496E-4E87-B4AD-F8EA59E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9DC4B-7FB2-4983-930D-0A345D92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9FE62-CF85-4A69-A186-CDBF604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CB769-515B-4101-BFBF-38A1086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63C0C-334B-481A-B14F-1708AD98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C8E17-C947-4970-8C76-991326CD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A00D8-74C4-44AB-863F-8215E156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52D-DBD2-4D75-8689-8B2E993D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0BA9-9559-4215-8B61-0237B9C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65C2-2112-405E-B04E-55FD02B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A8068-B15B-4761-9079-013374B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7E69B-60D7-4ED0-98E5-F097D9E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9414F-126B-484C-89C1-F77D8E6B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34941-1521-413D-A343-6AC4B047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C45BD-0FA1-4161-A005-441278B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2A51A-0ED1-4F93-9323-DDDFA7C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D410D-4693-43B0-91A7-B373FB4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73CF5-0426-4E03-B22F-815E7F12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CFC-EE47-40D4-A81C-673E6E49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A5224-3B4F-499C-A3D8-E8166FD6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7192A-45DC-4D65-9F29-3E2752C1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13B7-73A4-4EEF-AD3E-580EA88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552A-DCB7-43F4-A85E-2EE8E16E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D1D88-B235-4BD5-88D0-34AA931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30ACE-B977-4536-9434-982A49E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B7460-9B89-4CB4-BE34-2D2EDA9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8748-8FF3-429C-845A-A65A626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2177C-0233-4EC8-88D3-20369B3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52F6-71DC-4F5E-99F0-DD0D8B2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1354-BA5A-4771-BF80-07B69B6E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F18FA-52AF-4783-9416-B150422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98F71-55BA-41F1-BA84-3ED414EF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8E399-5F53-490D-B5D1-9D2C5430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133D-40C4-4C1C-A0E0-0327791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6CE-C14A-48B1-85DC-D0C83116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2E40-A080-425E-A758-751D22D3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508B-3C38-4EAE-8AA1-B26335B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4397-C456-4D68-936E-9EA8C4C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FDC8-7F0C-4C19-8C10-FCA1925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377-0ED0-44D2-8148-9AFF6B1A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667-A55B-4958-9C3F-F741F5D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1C09-4073-4FCD-BADC-936C0F9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8DC-A498-4138-94E1-65CE5D86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45E0-6FED-40B8-990F-2ECE984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A397-7854-4533-9ACD-9D1B4841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EC33-C16D-448C-8634-AE9625C5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3082-A858-4DA4-AFBD-669ADC13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8EAC-BBC2-4A13-A76E-8B24457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9C11-EC66-44DD-AF31-756DFAE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5273-D4A5-49F0-A946-1DB4572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224-5AE0-447D-9454-B3B48BD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CE15-5BA5-493B-A199-A5D11D05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2419-A5AF-4E7F-9A91-08D5203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D23F-7194-490F-B2CF-26D216D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2462-83A4-4D62-86C7-8259193A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D1DC-F52C-4855-80C8-8002D666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3EEA-0E3B-4E52-A9B6-EBC9C2DE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1732-52A0-464B-BA82-2478330E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E2CE-D148-4C52-AB28-A1494AA5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6ADE-E2EA-4623-B15F-C1EC761C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DE23-4D7E-4CC1-92EE-2C4A522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D4-0D90-46A0-B383-217452F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9B27-15D6-4F4E-8756-A26CC49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388F-D710-4852-981F-377060B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4B9F-837E-4183-9553-3719E12B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93CA-640F-4451-BED6-194ECAE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3831-0A2C-4306-B17D-647E171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252C-55EB-4056-A973-7A44A4F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65AC-E9AB-4AA3-9362-7A811CD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BBB5-F9C3-4D07-B44C-44B5E33C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DE66-DBF4-483E-ABEA-678A3C16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C0AD-81E8-408E-9DF3-BBA8E541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EE1-D881-4CDD-BDFE-5D2A4A7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18B7-0812-4BE4-B194-93EB896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BC8E-3825-4F88-A821-02C3DEA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1545-E9CF-4E02-9CEC-0B7BBDC6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F11C-E9F3-49E0-BFD5-7D877F6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A46A-FDF5-4EF9-AFBA-E60F6AEC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7DD0-3345-4AD7-BD66-DAD1320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8CD9-6DAE-4C5B-864C-9556965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F015-83FC-4BE6-ADE1-3BFA383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9CB8-F3FA-422E-BE17-AACD6E00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F1F9-DFCF-41AE-968F-E2A2CA20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248-02FD-4852-9ABA-4567D377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4748-0324-4E04-91EF-AB02147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2E6A0-6692-44E6-AD4A-7BB4B8A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211A-1D21-4E06-B2C8-AD000ED1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EF23-E1DC-48C9-B2FC-16A6E83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33AE-FC0B-4E23-BAEF-0F43608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1AC2-692A-4C64-A860-684E6E0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4E52-7856-4754-A288-1D548A9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0E3CA-1028-4ABD-81E3-21DE924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EC6C-9EDD-45D8-A448-0B58569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E1A7-FBB2-4266-861C-9723ABE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329-667A-403F-91C5-065FF5F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F2FA-D7E2-4A30-9656-B655CF6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1C06-9199-4A81-901D-4C65315A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DB35-9190-42B3-BBFF-D89BD189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B2D09-CB5B-45D0-8BA9-FE0D9703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B0E5-FE5D-4A85-A0CA-4A5C8169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F3F3-706A-40FF-82BF-1A75ECD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85D2C-E231-4BD3-89D2-0CA57AF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5686-EDF7-4414-A38A-CB27AFA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25CEB-DA95-43B4-A9FD-866F74AF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3809-0BB3-4B7D-B84B-1FE7CEA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F8A-F480-4676-8BB3-1C2A5F67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237A-A6AD-4DC5-9038-01A38EB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E802-10E8-450C-B8D9-67B4A12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9FDA-43AF-4BA3-9F2F-51036DD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E802-2D57-436D-BC57-B73EB725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01E02-9A0C-4434-9A7F-403A1AE8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E720-8C2C-46C4-AA51-6B28C1F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050B-2380-4921-9C10-B24C1AC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E3AA-D297-4510-88C4-A857015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1505-2EB9-4972-A951-9E63F9C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8CD5-3386-4B03-9438-835AA07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5ED-220F-42A3-95BF-72D95E0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472B-7557-4938-AD86-642ECC8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C978-42D3-47A8-9E8A-67A43F2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9A0A-6804-47D7-9416-FE178F94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5998-0851-4BBA-90EB-16573EF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6D87-7727-481F-B123-76DF006F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B258-BB75-4FF0-837F-DAAF6D7E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7668C-2062-4E77-8D64-C199A689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7D4FE-50DC-4414-B442-9C8D7ADC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93E78-D514-431C-8047-C70F43C8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B1400-297E-48B2-B34B-9C2FB396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CC7C-FF39-4530-8CBE-A71883CDFBB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5B9B512D-7571-445B-B672-621CE09099F8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375-0810-4355-B931-7CB1D4B0ED3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1D9-4418-4925-8C03-F8AF7569195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840413BC-4348-4D65-B908-28AC69140AF3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270B-D21B-4B07-A420-94BF7D503F9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59D1-9547-4DDF-998D-5C3E01B30C7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0C0D906A-C0FD-45C9-915E-77CAF7984AC3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028E-25E7-41C4-B699-2E6F820A791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995640" y="6273720"/>
            <a:ext cx="514836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6BB-580A-4207-A0BD-6EE478E14B6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CC738271-0FFE-499E-A1F7-FF11A34B6FB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1F44-967B-4875-8C96-C5C0B1AC300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F424-F5AD-4AF1-BAD6-9E791516479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702-6602-45B9-99A9-9AF6963A4899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D64F469B-53C7-4C80-A062-C037CB46E1A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6F6-D561-4134-B4AA-6558659D9CA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58F-70E1-44B1-A66A-EFDFD6DC32F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3073FC9A-B2A0-4FC5-8DB7-F9EB8839A849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01A2-648D-4B8E-9569-BB713594312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19ED-3099-48C0-96BF-E43BC95C211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3200C29A-C9EC-467A-A04F-C4ADAB07B01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02D-E5C1-4198-BB4A-1F9E2071CDB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A3F-FD70-486B-BEA9-FE452B647526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2ECE7D35-50DE-4AD6-827D-58B0A6259C53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A6E-469B-407A-BA16-B9CE14CE336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662-BB3E-43A9-87E6-D384A7A9B8C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8632-2C48-4350-8B91-7BC29512E631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9393D92D-B5B7-4E11-B4DE-32ADC5AB9880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ECA-83ED-47A3-A867-58B8B211C7E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032360" y="6273720"/>
            <a:ext cx="514800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10"/>
          <p:cNvSpPr txBox="1"/>
          <p:nvPr/>
        </p:nvSpPr>
        <p:spPr>
          <a:xfrm>
            <a:off x="1476360" y="2384280"/>
            <a:ext cx="5834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据结构复习提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55640" y="1600200"/>
            <a:ext cx="74883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单项选择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填空题（每空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计算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4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阅读算法题（每题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题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468360" y="54936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单项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分析的两个主要方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空间复杂度和时间复杂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性和简单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可读性和可操作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程序复杂性和数据复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在计算机存储器内表示时，物理地址与逻辑地址相同并且是连续的，称之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存储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逻辑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顺序存储结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链式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"/>
          <p:cNvSpPr/>
          <p:nvPr/>
        </p:nvSpPr>
        <p:spPr>
          <a:xfrm>
            <a:off x="239760" y="1268280"/>
            <a:ext cx="6605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算法的语句执行频度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时间复杂度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线性表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况下适用于使用顺序存储结构实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需不断对Ｌ进行按序号查找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需不断对Ｌ进行删除插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含有大量的结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结点结构复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下数据结构中哪一个是线性结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576360" y="1376280"/>
            <a:ext cx="62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叉树是非线性数据结构，所以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顺序存储结构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链式存储结构存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顺序存储结构和链式存储结构都能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顺序存储结构和链式存储结构都不能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无向图中，一个顶点的度是指图中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过该顶点的简单路径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与该顶点相邻接的顶点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过该顶点的回路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2"/>
          <p:cNvSpPr/>
          <p:nvPr/>
        </p:nvSpPr>
        <p:spPr>
          <a:xfrm>
            <a:off x="468360" y="981000"/>
            <a:ext cx="638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单链表中，指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指向元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结点，实现删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后继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p=p-&gt;next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p-&gt;next=p-&gt;next-&gt;next;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p-&gt;next=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p-&gt;next-&gt;next =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设将整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,2,3,4,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依次进栈，最后都出栈，出栈可以在任何时刻（只要栈不空）进行，则出栈序列不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 54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．下面程序的时间复杂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+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t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(j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=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++) t=t+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s*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"/>
          <p:cNvSpPr/>
          <p:nvPr/>
        </p:nvSpPr>
        <p:spPr>
          <a:xfrm>
            <a:off x="216000" y="1268280"/>
            <a:ext cx="664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等概率的条件下，采用顺序查找的方法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线性表时，查找成功的平均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. (n+1)/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(n-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队列元素的进出原则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先进先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后进先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空则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满则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顺序表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02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.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1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.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"/>
          <p:cNvSpPr/>
          <p:nvPr/>
        </p:nvSpPr>
        <p:spPr>
          <a:xfrm>
            <a:off x="142920" y="141300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无向图的邻接矩阵是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对称矩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三角矩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三角矩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对角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已知一个有序表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，则折半查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需要比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 填空题（每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，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设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均为空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再将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元素顺次出队的元素进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再将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元素逐个出栈，并将出栈元素顺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状态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decb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无向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邻接矩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i][j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j][i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一个单链表中删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指结点的后继结点时，应执行以下操作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 = p-&gt;next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-&gt;next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q-&gt;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的前序和中序遍历序列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惟一确定这棵二叉树（填写能或者不能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串相等的充分必要条件是两个串的长度相等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1079640" y="2708280"/>
            <a:ext cx="669744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时间复杂度与空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执行频度与时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物理地址与逻辑地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元素之间的关系有哪些；线性结构包括哪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2158920" y="1592280"/>
            <a:ext cx="5005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绪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二叉树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层上最多有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lang="en-US" sz="3200" spc="-1" strike="noStrike" u="sng" baseline="30000">
                <a:solidFill>
                  <a:srgbClr val="ff0000"/>
                </a:solidFill>
                <a:uFillTx/>
                <a:latin typeface="Arial"/>
                <a:ea typeface="宋体"/>
              </a:rPr>
              <a:t>i-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节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以邻接矩阵表示有向图，则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行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出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列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入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结点所构成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有种形态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树内各结点度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大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树的度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在初始为空的队列中插入元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,b,c,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后，紧接着做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删除操作，此时的队头元素是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046160" y="2338560"/>
            <a:ext cx="845820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611280" y="22510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对象 2"/>
          <p:cNvGraphicFramePr/>
          <p:nvPr/>
        </p:nvGraphicFramePr>
        <p:xfrm>
          <a:off x="5508720" y="3033720"/>
          <a:ext cx="20574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033720"/>
                    <a:ext cx="20574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矩形 4"/>
          <p:cNvSpPr/>
          <p:nvPr/>
        </p:nvSpPr>
        <p:spPr>
          <a:xfrm>
            <a:off x="1440" y="1251000"/>
            <a:ext cx="55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计算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1032480" y="188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不带权有向图如下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"/>
          <p:cNvSpPr/>
          <p:nvPr/>
        </p:nvSpPr>
        <p:spPr>
          <a:xfrm>
            <a:off x="250920" y="2338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给出其邻接矩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画出该图的无向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求该图的无向图的广度优先遍历序列，以结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对象 2"/>
          <p:cNvGraphicFramePr/>
          <p:nvPr/>
        </p:nvGraphicFramePr>
        <p:xfrm>
          <a:off x="619200" y="3860640"/>
          <a:ext cx="156204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0" y="3860640"/>
                    <a:ext cx="156204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对象 4"/>
          <p:cNvGraphicFramePr/>
          <p:nvPr/>
        </p:nvGraphicFramePr>
        <p:xfrm>
          <a:off x="2763720" y="3816360"/>
          <a:ext cx="23716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3720" y="3816360"/>
                    <a:ext cx="23716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矩形 5"/>
          <p:cNvSpPr/>
          <p:nvPr/>
        </p:nvSpPr>
        <p:spPr>
          <a:xfrm>
            <a:off x="827280" y="59133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度优先遍历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GF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"/>
          <p:cNvSpPr/>
          <p:nvPr/>
        </p:nvSpPr>
        <p:spPr>
          <a:xfrm>
            <a:off x="576360" y="368280"/>
            <a:ext cx="59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出用直接插入排序将关键字序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54,23,89,48,64,50,25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排序过程的每一趟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)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规模的数据元素进行递增排序，请分析插入排序在最好情况下的时间效率是多少？为什么？最坏情况下时间效率是多少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582480" y="2492280"/>
            <a:ext cx="665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键字序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54,23,89,48,64,50,25}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直接插入排序过程如下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54],23,89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],89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48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64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5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六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七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[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,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好情况下，原始数据已经按照关键字递增排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，此时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n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；最坏情况下，原始数据是按照关键字递减排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，此时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n^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"/>
          <p:cNvSpPr/>
          <p:nvPr/>
        </p:nvSpPr>
        <p:spPr>
          <a:xfrm>
            <a:off x="647640" y="1341360"/>
            <a:ext cx="621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设有一棵二叉树，它的中序和后序遍历结果如下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   4   3   5   6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后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   6   5   3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画出该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树的深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对象 2"/>
          <p:cNvGraphicFramePr/>
          <p:nvPr/>
        </p:nvGraphicFramePr>
        <p:xfrm>
          <a:off x="4557600" y="2744640"/>
          <a:ext cx="190512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2744640"/>
                    <a:ext cx="190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Rectangle 6"/>
          <p:cNvSpPr/>
          <p:nvPr/>
        </p:nvSpPr>
        <p:spPr>
          <a:xfrm>
            <a:off x="4546080" y="5662440"/>
            <a:ext cx="2100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该树的深度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"/>
          <p:cNvSpPr/>
          <p:nvPr/>
        </p:nvSpPr>
        <p:spPr>
          <a:xfrm>
            <a:off x="644400" y="347760"/>
            <a:ext cx="621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已知一棵二叉树的先序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BDGJEHCFIK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中序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JGBEHACKIL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请回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写出二叉树先序遍历的定义。（简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写出二叉树中序遍历的定义。（简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这颗二叉树的根节点是哪个节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具体画出二叉树的形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755640" y="2529000"/>
            <a:ext cx="745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先序遍历的定义是：若二叉树为空，则结束遍历操作；否则访问根结点；然后先序遍历根的左子树；最后先序遍历根的右子树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中序遍历的定义是：若二叉树为空，则结束遍历操作；否则中序遍历根的左子树；然后访问根结点；最后中序遍历根的右子树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根节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二叉树的形态如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7" descr=""/>
          <p:cNvPicPr/>
          <p:nvPr/>
        </p:nvPicPr>
        <p:blipFill>
          <a:blip r:embed="rId1"/>
          <a:stretch/>
        </p:blipFill>
        <p:spPr>
          <a:xfrm>
            <a:off x="4575240" y="4076640"/>
            <a:ext cx="1768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95280" y="101592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阅读算法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面是实现：假设已经存在一个顺序表，将该顺序表逆转。其中已经存在的顺序表用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表示，顺序表的元素个数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最后将逆转的顺序表继续存在数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：数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的存储地址是多少？写出计算公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问：在该顺序表中，查找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的时间复杂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请将缺少的代码补充完整，并分析算法的时间复杂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void simsort(  ElemType b [ ], int n 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  ElemType  a [n];    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辅助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(i=1; i&lt;n; i++) a [i]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1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）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b[n-i+1]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 (j=1; j&lt;n; j++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（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2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）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b[j]=a[j]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上面算法需要辅助的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，即数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[n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请设计一种算法，实现与上面算法相同的功能，但只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辅助存储空间，设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请写出该算法。如下给出了该算法的算法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算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void simsort(  ElemType b [ ], int n 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  ElemType  x;                 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辅助存储空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在这里将算法补充完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"/>
          <p:cNvSpPr/>
          <p:nvPr/>
        </p:nvSpPr>
        <p:spPr>
          <a:xfrm>
            <a:off x="5364000" y="51577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(i=1; i&lt;n/2; i++)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{    x=b[i]                 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[i]= b[n-i+1];     (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[n-i+1]=x;    }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4" descr="母版_图片2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3" descr="谢谢大家"/>
          <p:cNvPicPr/>
          <p:nvPr/>
        </p:nvPicPr>
        <p:blipFill>
          <a:blip r:embed="rId2"/>
          <a:stretch/>
        </p:blipFill>
        <p:spPr>
          <a:xfrm>
            <a:off x="3816360" y="2168640"/>
            <a:ext cx="4753080" cy="1331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鞠躬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63640" y="148428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863640" y="2529000"/>
            <a:ext cx="702144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顺序表的特点（存储空间是连续的，元素是按逻辑顺序存放的）；会写顺序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链式存储空间的特点（存储空间是可连续可不连续，元素之间的逻辑关系可不一致，但由指针域确定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写线性链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95280" y="1557360"/>
            <a:ext cx="8748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线性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栈的特点（先进后出）；会写进栈与退栈算法，入栈与出栈序列；栈顶元素的变化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队列的特点（先进先出），知道队头与队尾指针指向何处；会写循环队列的入队与退队的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栈和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串和空格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187280" y="2816280"/>
            <a:ext cx="669780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用二叉树的性质，不要求证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二叉树遍历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给出二叉树的前序序列和中序序列，能画出二叉树，并能写出后序序列（考查学生会三种遍历的思想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写三种遍历算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树的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1079640" y="1592280"/>
            <a:ext cx="6084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树与二叉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800360" y="2928960"/>
            <a:ext cx="6697440" cy="30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图的概念，会求完全图（有向，无向）的边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一个图能画出其关联矩阵和邻接表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,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理解图的二种存储结构的思想；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画有向图的无向图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图的二种遍历（深度 广度）结果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考查思想，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顶点的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图的入度和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808360" y="441360"/>
            <a:ext cx="392436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1116000" y="4257720"/>
            <a:ext cx="669780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折半查找的比较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有序表的查找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1908000" y="297000"/>
            <a:ext cx="5329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查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332000" y="1881360"/>
          <a:ext cx="6095880" cy="2286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1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顺序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对分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叉排序树查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储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  链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链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否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都可，适合无序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要求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但中序排序后是有序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Rectangle 55"/>
          <p:cNvSpPr/>
          <p:nvPr/>
        </p:nvSpPr>
        <p:spPr>
          <a:xfrm>
            <a:off x="1851480" y="135108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三种算法的适合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1116000" y="4257720"/>
            <a:ext cx="6697800" cy="20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2411280" y="2421000"/>
            <a:ext cx="5185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排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3241800" y="3451320"/>
            <a:ext cx="411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三类排序算法中最基本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冒泡排序的思想，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直接插入排序的思想，过程，分析时间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简单选择排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5:18:13Z</dcterms:created>
  <dc:creator>边长生</dc:creator>
  <dc:description/>
  <dc:language>en-US</dc:language>
  <cp:lastModifiedBy>CDX</cp:lastModifiedBy>
  <dcterms:modified xsi:type="dcterms:W3CDTF">2017-04-14T08:47:50Z</dcterms:modified>
  <cp:revision>623</cp:revision>
  <dc:subject/>
  <dc:title>2001年1月25日学院督导研讨会</dc:title>
</cp:coreProperties>
</file>